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866-0CF5-4ED7-9E2D-80CC8BFF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6A9-3915-4015-8BB5-0540F039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E10-3164-4914-A8BC-9AC27F5A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2CE-E1C6-4EDD-A2C0-43545786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DA16-BF43-44EF-8886-52F77DBF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90D7-6212-440B-84C0-7F5268CE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E627-4142-4805-8C59-D1206CE0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4A12-1305-4DE3-BECE-8EE245F6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2102-AA05-4F43-BF87-17FB56E1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C9F9-D7C4-4A86-BDC2-F63F0FE0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4B1C-49E7-4FC0-9338-9E2A3422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DBA-022C-4C0D-BD19-E03EEA8D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99C9-5EAB-465A-828D-99A77C65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3330-A19A-4E90-BD61-2313B32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11C3-9F13-4459-B818-C02066A2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4C9F-A2AC-4E62-ABA2-0588A313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EB52-6B56-4683-AE3F-2D83EFDB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711-1196-4E56-8737-0256635A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3D4-067F-4C4F-92F0-A5635C4C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A2A-C9EA-488D-937B-D3FD0F9D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224-C96C-4168-AFBA-118B6FB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CF5-F328-49C2-80CE-EB93224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306-75BD-4CEF-9F56-6970B75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5FA-698E-4F19-93AD-8F2201A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B18D-2503-4E8C-9EE2-FDBB1AA55E0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D6E6-7B1E-44D5-B709-9C3143B05C0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82400"/>
                </a:solidFill>
                <a:uFillTx/>
                <a:latin typeface="Times New Roman"/>
              </a:rPr>
              <a:t>Idylls of the King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ennyso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42670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deling “metacognition”</a:t>
            </a:r>
            <a:r>
              <a:rPr b="0" lang="en-US" sz="66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p. 15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awareness of one’s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the voice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ware of your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bout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out loud in your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6-17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, passing thence to battle, f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il, and throes and agonies of the lif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will not be happy ruling without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ill not be a whole person without the one he loves by his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er, his happiness will spread to all the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has resolved an inner conflict and set a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1320" y="1905120"/>
            <a:ext cx="23223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to make the most of your life, you need a loved one by your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two for one to feel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life goes better when one’s private life is happy and se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9800" y="1766880"/>
            <a:ext cx="2112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7 (cont.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after--as he speaks who tells the tale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thur reach’d a field of battle 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itch’d pavilions of his foe,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ll so clear about him that h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is inspired by his love for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approaches the battle with perfect clarity and sharp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’s focus drives him to success on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ds seem to be with Arthur on this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022720" y="2575080"/>
            <a:ext cx="3808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find inspiration and set clear objectives for their lives are likely to achie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2000" y="191916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9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, there be many rumors on his head; For there be those who hate him in thei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him baseborn, and since his ways are sweet, and theirs are bestial, hold him less than man; And there be those who deem him more than man, And dream he dropt from heav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jealousy and envy, some have devised malicious rumors to make Arthur seem evil (like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have put him on a pedestal, made him God-like (also inaccur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24600" y="1766880"/>
            <a:ext cx="3603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uman nature that jealousy breeds contempt and prompts people to put other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so human nature to make our heroes out to be more than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62000" y="1962000"/>
            <a:ext cx="38084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ading Academic Standar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1.A.1  Demonstrate the ability to understan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43440" y="1766880"/>
            <a:ext cx="23655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25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 said, ‘Behold, thy doom is mine. Let chance what will, I love thee to the death!’  To whom the Queen replied with drooping eyes, ‘King and my lord, I love thee to the deat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nferences and/or applied thoughts?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91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When you love you should not say, ‘God is in my heart,’ but rather, ‘I am in the heart of God.’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And think not you can direct the course of love, for love, if it finds you worthy, directs your course.”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-Kahlil Gibra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rpose of this is for you to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every bit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w the heck to I do all that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38560" y="1766880"/>
            <a:ext cx="3416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ough “Reading on Level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:   Reading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:   Reading beyond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Levels of Readin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:  What did the author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nyson’s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tial:  What do the author’s words mean to me?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interpre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:  Can I apply this to my world today, to human nature, to my own experienc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3  (dedication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o his memory--since he held them dear, Perchance as finding there unconsciously . 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dedication  p. 13,14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followed his conscience to do what he thought right and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is life, he had one true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 not give in to the temptations that come with power and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der the spotlight that comes with fame, his life and record are without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passing was a huge loss for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(beyond the book)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who are able to remain true to themselves and resist the temptation to abuse their power are admired, yet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who have one true love in their life are to be adm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heroes are rare, that is why we miss them when they are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37:28Z</dcterms:created>
  <dc:creator>FCHS</dc:creator>
  <dc:description/>
  <dc:language>en-US</dc:language>
  <cp:lastModifiedBy>PA Department of Education</cp:lastModifiedBy>
  <dcterms:modified xsi:type="dcterms:W3CDTF">2009-04-13T12:26:58Z</dcterms:modified>
  <cp:revision>27</cp:revision>
  <dc:subject/>
  <dc:title>Idylls of the King - Tennyson</dc:title>
</cp:coreProperties>
</file>