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C2B-88C5-4292-A9F4-04503D98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B9D-9152-45E6-8ACA-B576D5B2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4DA-8CC0-45B1-B7D2-6781A308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5D4-80C1-45FD-B419-82E88008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170B-F70C-40D8-9189-6E66AC76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5621-EFF9-4D5F-BDEE-9E03F6D1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0870-2594-4EA9-85E7-5C83BAF7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43D2-177A-49C4-BAE7-1999FF87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0FCD-5F17-4496-AC91-AA277FAA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E58B-E09D-4D17-892E-79734A21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8F01-7538-4A91-832A-E340221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5AB-7495-4C20-9C91-25816792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17A7-8219-4316-AE4D-42FD68D9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9309-7B89-45B4-A47E-557FD64C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07D4-F920-4331-8410-1DC3494A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6D0A-538B-405C-AE53-9CBBFC2B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7A82-BCC8-4890-8D84-441ACFEE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4D1-40AC-4B66-A9FB-6BD644FB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7B0-F998-4A61-A2BD-8C37828B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839-0471-4554-9095-831C9639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188-8633-4C6B-BBB8-CE6799A6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307-38AE-48E1-9B98-8CA8248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FC3-698D-4FE8-8886-3699451D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9A2-5846-41EE-A374-278468AD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58E8-14E9-4DFE-AE4C-74DF7242C35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FAF3-5BAA-4144-B7C6-DB5F5762773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82400"/>
                </a:solidFill>
                <a:uFillTx/>
                <a:latin typeface="Times New Roman"/>
              </a:rPr>
              <a:t>Idylls of the King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ennyso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42670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deling “metacognition”</a:t>
            </a:r>
            <a:r>
              <a:rPr b="0" lang="en-US" sz="66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p. 15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awareness of one’s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the voice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ware of your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bout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out loud in your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6-17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, passing thence to battle, f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il, and throes and agonies of the lif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will not be happy ruling without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ill not be a whole person without the one he loves by his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er, his happiness will spread to all the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has resolved an inner conflict and set a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1320" y="1905120"/>
            <a:ext cx="23223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to make the most of your life, you need a loved one by your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two for one to feel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life goes better when one’s private life is happy and se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9800" y="1766880"/>
            <a:ext cx="2112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7 (cont.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after--as he speaks who tells the tale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thur reach’d a field of battle 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itch’d pavilions of his foe,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ll so clear about him that h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is inspired by his love for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approaches the battle with perfect clarity and sharp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’s focus drives him to success on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ds seem to be with Arthur on this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022720" y="2575080"/>
            <a:ext cx="3808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find inspiration and set clear objectives for their lives are likely to achie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2000" y="191916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9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, there be many rumors on his head; For there be those who hate him in thei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him baseborn, and since his ways are sweet, and theirs are bestial, hold him less than man; And there be those who deem him more than man, And dream he dropt from heav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jealousy and envy, some have devised malicious rumors to make Arthur seem evil (like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have put him on a pedestal, made him God-like (also inaccur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24600" y="1766880"/>
            <a:ext cx="3603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uman nature that jealousy breeds contempt and prompts people to put other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so human nature to make our heroes out to be more than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62000" y="1962000"/>
            <a:ext cx="38084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ading Academic Standar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1.A.1  Demonstrate the ability to understan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43440" y="1766880"/>
            <a:ext cx="23655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25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 said, ‘Behold, thy doom is mine. Let chance what will, I love thee to the death!’  To whom the Queen replied with drooping eyes, ‘King and my lord, I love thee to the deat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nferences and/or applied thoughts?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91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When you love you should not say, ‘God is in my heart,’ but rather, ‘I am in the heart of God.’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And think not you can direct the course of love, for love, if it finds you worthy, directs your course.”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-Kahlil Gibra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rpose of this is for you to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every bit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w the heck to I do all that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38560" y="1766880"/>
            <a:ext cx="3416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ough “Reading on Level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:   Reading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:   Reading beyond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Levels of Readin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:  What did the author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nyson’s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tial:  What do the author’s words mean to me?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interpre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:  Can I apply this to my world today, to human nature, to my own experienc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3  (dedication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o his memory--since he held them dear, Perchance as finding there unconsciously . 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dedication  p. 13,14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followed his conscience to do what he thought right and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is life, he had one true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 not give in to the temptations that come with power and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der the spotlight that comes with fame, his life and record are without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passing was a huge loss for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(beyond the book)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who are able to remain true to themselves and resist the temptation to abuse their power are admired, yet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who have one true love in their life are to be adm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heroes are rare, that is why we miss them when they are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37:28Z</dcterms:created>
  <dc:creator>FCHS</dc:creator>
  <dc:description/>
  <dc:language>en-US</dc:language>
  <cp:lastModifiedBy>PA Department of Education</cp:lastModifiedBy>
  <dcterms:modified xsi:type="dcterms:W3CDTF">2009-04-13T12:26:58Z</dcterms:modified>
  <cp:revision>27</cp:revision>
  <dc:subject/>
  <dc:title>Idylls of the King - Tennyson</dc:title>
</cp:coreProperties>
</file>