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ng" ContentType="image/png"/>
  <Override PartName="/ppt/media/image1.jpeg" ContentType="image/jpeg"/>
  <Override PartName="/ppt/media/image5.png" ContentType="image/png"/>
  <Override PartName="/ppt/media/image16.pct" ContentType="image/x-pict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10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552-48C7-41B9-BA5F-65CC3D5D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38A-FCDB-417A-B970-037441D4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DD0-717A-4F54-A1C3-C3C11D0B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119-BFFA-4263-ABA9-DFA8BDF8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48D3-9E07-47E1-B8D7-C16D65F5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BD4E-BA87-45C7-AF1C-70B36490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67A5-3B72-4039-8F2A-99D98F0D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7C6D-6CED-42C4-ADA1-B0747AF2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2F3E-8B45-4A8E-A184-CED3CC89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29F8-C87F-4772-B240-BC3DE299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082C-7E7F-4507-A2A5-472BB52E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185-8759-4ADB-8F30-7BA049F1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A3CD-A9A0-460D-851D-8A2C8A96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C6FE-D262-47F2-833C-70619614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3F10-2191-4DCD-80D3-372058EC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424C-EBA3-4101-AF16-B3A667CE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9BFC-E8C5-4D0C-9CDB-A3956518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E22-FA55-494E-9293-0735C7D7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975-0C3B-44D3-BBBE-805B92D8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912-C914-4E5C-9594-A6B95F76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C47-FDB2-49D6-88C9-4D1ECDFF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2E8-EA4C-4033-B668-C091018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F47-55D8-4EC8-9D99-F8B30B3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0BF-26CD-4D6B-9A8E-3F6D3841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11A0-157E-48EF-AE49-F6A881C3E86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872A-FF4A-432F-9DAF-435BA9E6480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82400"/>
                </a:solidFill>
                <a:uFillTx/>
                <a:latin typeface="Times New Roman"/>
              </a:rPr>
              <a:t>Idylls of the King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Tennyso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42670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deling “metacognition”</a:t>
            </a:r>
            <a:r>
              <a:rPr b="0" lang="en-US" sz="66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p. 15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awareness of one’s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the voice wi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aware of your ow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about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out loud in your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6-17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, passing thence to battle, f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ail, and throes and agonies of the lif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will not be happy ruling without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ill not be a whole person without the one he loves by his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er, his happiness will spread to all they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has resolved an inner conflict and set a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791320" y="1905120"/>
            <a:ext cx="23223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to make the most of your life, you need a loved one by your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akes two for one to feel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life goes better when one’s private life is happy and se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9800" y="1766880"/>
            <a:ext cx="2112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7 (cont.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after--as he speaks who tells the tale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thur reach’d a field of battle 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itch’d pavilions of his foe,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all so clear about him that h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is inspired by his love for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approaches the battle with perfect clarity and sharp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’s focus drives him to success on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ds seem to be with Arthur on this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022720" y="2575080"/>
            <a:ext cx="3808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ho find inspiration and set clear objectives for their lives are likely to achiev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62000" y="191916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9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, there be many rumors on his head; For there be those who hate him in their hear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him baseborn, and since his ways are sweet, and theirs are bestial, hold him less than man; And there be those who deem him more than man, And dream he dropt from heav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jealousy and envy, some have devised malicious rumors to make Arthur seem evil (like th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have put him on a pedestal, made him God-like (also inaccur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24600" y="1766880"/>
            <a:ext cx="3603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human nature that jealousy breeds contempt and prompts people to put other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so human nature to make our heroes out to be more than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062000" y="1962000"/>
            <a:ext cx="38084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ading Academic Standar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1.A.1  Demonstrate the ability to understand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43440" y="1766880"/>
            <a:ext cx="23655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25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 said, ‘Behold, thy doom is mine. Let chance what will, I love thee to the death!’  To whom the Queen replied with drooping eyes, ‘King and my lord, I love thee to the deat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Inferences and/or applied thoughts?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91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When you love you should not say, ‘God is in my heart,’ but rather, ‘I am in the heart of God.’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And think not you can direct the course of love, for love, if it finds you worthy, directs your course.”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-Kahlil Gibran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rpose of this is for you to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every bit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w the heck to I do all that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38560" y="1766880"/>
            <a:ext cx="3416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ough “Reading on Level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:   Reading between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:   Reading beyond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Levels of Readin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l:  What did the author s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nyson’s wo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tial:  What do the author’s words mean to me?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interpre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:  Can I apply this to my world today, to human nature, to my own experience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3  (dedication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o his memory--since he held them dear, Perchance as finding there unconsciously . 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dedication  p. 13,14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followed his conscience to do what he thought right and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is life, he had one true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 not give in to the temptations that come with power and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der the spotlight that comes with fame, his life and record are without 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passing was a huge loss for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(beyond the book)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who are able to remain true to themselves and resist the temptation to abuse their power are admired, yet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se who have one true love in their life are to be adm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heroes are rare, that is why we miss them when they are g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37:28Z</dcterms:created>
  <dc:creator>FCHS</dc:creator>
  <dc:description/>
  <dc:language>en-US</dc:language>
  <cp:lastModifiedBy>PA Department of Education</cp:lastModifiedBy>
  <dcterms:modified xsi:type="dcterms:W3CDTF">2009-04-13T12:26:58Z</dcterms:modified>
  <cp:revision>27</cp:revision>
  <dc:subject/>
  <dc:title>Idylls of the King - Tennyson</dc:title>
</cp:coreProperties>
</file>