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ng" ContentType="image/png"/>
  <Override PartName="/ppt/media/image1.jpeg" ContentType="image/jpeg"/>
  <Override PartName="/ppt/media/image5.png" ContentType="image/png"/>
  <Override PartName="/ppt/media/image16.pct" ContentType="image/x-pict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10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938-181F-4B1C-B7A0-EBCF1CF5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D36-72AA-4624-A273-7FE32451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4A4-2701-4404-8688-1AB645EB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A38-D3FE-4D07-B770-E5B7002D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1328-E61C-4AA3-B063-53F6E996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3170-A6F0-4634-8D96-2B12C844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784D-246F-480A-A48B-AB7A9E90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B988-3C37-405F-A2C0-DF070694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3FE3-4CCA-49FF-A1E8-0A66556B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1012-8159-454E-86A6-29D9ACBF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222D-15EA-4CA3-B3FA-CF7AA2B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4ED-386F-4C0E-9DEC-BF1442A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35FD-D445-4E82-9BDB-7E617F3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0601-9FE9-468B-A6D7-5595E480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BD58-3E27-44E8-BE4B-A3EEAF4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E99A-B7CE-4674-9BB8-D9930016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62F0-537F-4809-89A1-0FB372EC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E5C-ED8E-452D-B70E-4DBAC1B9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E1A-7D8B-43CF-9ED8-C0E6BA6F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8D7-50F3-4011-8893-8027AAC2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209-FE70-417D-8259-E69F38D6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B12-A5DB-4132-B4FD-7B49BF5A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6C9-F872-4AFC-B0F1-DD85C49F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CF1-1BC9-460F-BF4A-50F371B1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A4E2-9884-4246-BD99-C00158D3624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3F4B-C1BD-4BB4-B64C-5B822FD2D42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82400"/>
                </a:solidFill>
                <a:uFillTx/>
                <a:latin typeface="Times New Roman"/>
              </a:rPr>
              <a:t>Idylls of the King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Tennyso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42670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deling “metacognition”</a:t>
            </a:r>
            <a:r>
              <a:rPr b="0" lang="en-US" sz="66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p. 15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awareness of one’s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the voice wi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aware of your ow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about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out loud in your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6-17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, passing thence to battle, f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ail, and throes and agonies of the lif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will not be happy ruling without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ill not be a whole person without the one he loves by his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er, his happiness will spread to all they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has resolved an inner conflict and set a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791320" y="1905120"/>
            <a:ext cx="23223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to make the most of your life, you need a loved one by your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akes two for one to feel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life goes better when one’s private life is happy and se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9800" y="1766880"/>
            <a:ext cx="2112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7 (cont.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after--as he speaks who tells the tale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thur reach’d a field of battle 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itch’d pavilions of his foe,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all so clear about him that h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is inspired by his love for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approaches the battle with perfect clarity and sharp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’s focus drives him to success on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ds seem to be with Arthur on this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022720" y="2575080"/>
            <a:ext cx="3808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ho find inspiration and set clear objectives for their lives are likely to achiev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62000" y="191916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9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, there be many rumors on his head; For there be those who hate him in their hear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him baseborn, and since his ways are sweet, and theirs are bestial, hold him less than man; And there be those who deem him more than man, And dream he dropt from heav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jealousy and envy, some have devised malicious rumors to make Arthur seem evil (like th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have put him on a pedestal, made him God-like (also inaccur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24600" y="1766880"/>
            <a:ext cx="3603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human nature that jealousy breeds contempt and prompts people to put other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so human nature to make our heroes out to be more than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062000" y="1962000"/>
            <a:ext cx="38084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ading Academic Standar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1.A.1  Demonstrate the ability to understand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43440" y="1766880"/>
            <a:ext cx="23655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25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 said, ‘Behold, thy doom is mine. Let chance what will, I love thee to the death!’  To whom the Queen replied with drooping eyes, ‘King and my lord, I love thee to the deat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Inferences and/or applied thoughts?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91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When you love you should not say, ‘God is in my heart,’ but rather, ‘I am in the heart of God.’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And think not you can direct the course of love, for love, if it finds you worthy, directs your course.”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-Kahlil Gibran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rpose of this is for you to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every bit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w the heck to I do all that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38560" y="1766880"/>
            <a:ext cx="3416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ough “Reading on Level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:   Reading between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:   Reading beyond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Levels of Readin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l:  What did the author s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nyson’s wo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tial:  What do the author’s words mean to me?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interpre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:  Can I apply this to my world today, to human nature, to my own experience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3  (dedication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o his memory--since he held them dear, Perchance as finding there unconsciously . 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dedication  p. 13,14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followed his conscience to do what he thought right and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is life, he had one true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 not give in to the temptations that come with power and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der the spotlight that comes with fame, his life and record are without 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passing was a huge loss for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(beyond the book)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who are able to remain true to themselves and resist the temptation to abuse their power are admired, yet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se who have one true love in their life are to be adm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heroes are rare, that is why we miss them when they are g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37:28Z</dcterms:created>
  <dc:creator>FCHS</dc:creator>
  <dc:description/>
  <dc:language>en-US</dc:language>
  <cp:lastModifiedBy>PA Department of Education</cp:lastModifiedBy>
  <dcterms:modified xsi:type="dcterms:W3CDTF">2009-04-13T12:26:58Z</dcterms:modified>
  <cp:revision>27</cp:revision>
  <dc:subject/>
  <dc:title>Idylls of the King - Tennyson</dc:title>
</cp:coreProperties>
</file>