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ct" ContentType="image/x-pict"/>
  <Override PartName="/ppt/media/image2.png" ContentType="image/png"/>
  <Override PartName="/ppt/media/image12.png" ContentType="image/png"/>
  <Override PartName="/ppt/media/image1.jpeg" ContentType="image/jpeg"/>
  <Override PartName="/ppt/media/image5.png" ContentType="image/png"/>
  <Override PartName="/ppt/media/image16.pct" ContentType="image/x-pict"/>
  <Override PartName="/ppt/media/image9.pct" ContentType="image/x-pict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6.png" ContentType="image/png"/>
  <Override PartName="/ppt/media/image7.pct" ContentType="image/x-pict"/>
  <Override PartName="/ppt/media/image8.png" ContentType="image/png"/>
  <Override PartName="/ppt/media/image10.pct" ContentType="image/x-pict"/>
  <Override PartName="/ppt/media/image1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644E-F1BE-4578-9428-17FACB97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B10C-1A14-4F07-9C3B-56C7465C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A606-E7B7-4B8F-A182-E4C3EFDF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8A73-FB7A-427B-B651-8DED78D5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AD45-DD54-45C2-8B15-ED3A0F70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7D8D-3153-4507-80ED-8EF5373B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80AB-66A7-43B4-8BE5-8EEBC957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3FB5-B7FE-48ED-B924-DD177B7C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4129-4FC7-43DD-9D14-9F567038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7407-F91D-4E3B-A164-AD2B57B8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8DC6-8A97-4D79-8656-3FB2167C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AAF0-F182-4C76-B55B-61F14320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5CC8-D6CE-4298-BC39-770D908B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411D-25B8-45BC-B778-80746BE9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6B4E-C061-4F06-90EB-8AAF62D9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7371-B815-4F50-B7C5-FC2DA3BE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6BFF-2B48-4154-9C86-6FE81394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37CC-1F6B-430F-A7BB-B721B1E1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634A-BAB0-4D63-A933-1DABB820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E203-D9EF-428C-89E7-262B2D12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A70D-6665-42A0-A6A6-66142FD1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7FE3-28B5-419A-8FD2-847392CD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6436-B85D-49B5-89B8-0A37E772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9132-1998-4C54-9D61-C2B49379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DFE0-9F80-4E8A-8E5F-24FA08E87F6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4D8E-2765-4327-935D-62805DB3153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0.pct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1.pct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5.pct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82400"/>
                </a:solidFill>
                <a:uFillTx/>
                <a:latin typeface="Times New Roman"/>
              </a:rPr>
              <a:t>Idylls of the King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- </a:t>
            </a: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Tennyson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743200" y="3505320"/>
            <a:ext cx="426708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odeling “metacognition”</a:t>
            </a:r>
            <a:r>
              <a:rPr b="0" lang="en-US" sz="66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(p. 15)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f awareness of one’s thou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ing the voice wi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ing aware of your own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ing about th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ing out loud in your 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           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16-17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rthur, passing thence to battle, f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ail, and throes and agonies of the life. . 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fer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 will not be happy ruling without Guinev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ill not be a whole person without the one he loves by his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her, his happiness will spread to all they r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 has resolved an inner conflict and set a purp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5791320" y="1905120"/>
            <a:ext cx="232236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lied thought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haps to make the most of your life, you need a loved one by your 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takes two for one to feel wh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life goes better when one’s private life is happy and sec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909800" y="1766880"/>
            <a:ext cx="211284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       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17 (cont.)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after--as he speaks who tells the tale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rthur reach’d a field of battle b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itch’d pavilions of his foe,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all so clear about him that he. . 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fer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 is inspired by his love for Guinev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 approaches the battle with perfect clarity and sharp foc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’s focus drives him to success on the battle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ods seem to be with Arthur on this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5022720" y="2575080"/>
            <a:ext cx="38084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lied thought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who find inspiration and set clear objectives for their lives are likely to achiev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062000" y="1919160"/>
            <a:ext cx="380844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19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r, there be many rumors on his head; For there be those who hate him in their hear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him baseborn, and since his ways are sweet, and theirs are bestial, hold him less than man; And there be those who deem him more than man, And dream he dropt from heave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feren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jealousy and envy, some have devised malicious rumors to make Arthur seem evil (like the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 have put him on a pedestal, made him God-like (also inaccura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124600" y="1766880"/>
            <a:ext cx="36036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lied thought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human nature that jealousy breeds contempt and prompts people to put others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lso human nature to make our heroes out to be more than they really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062000" y="1962000"/>
            <a:ext cx="380844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Reading Academic Standard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11.A.1  Demonstrate the ability to understand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pr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ctional text, novel excerpt, and poetry, appropriate to grade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743440" y="1766880"/>
            <a:ext cx="236556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25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rthur said, ‘Behold, thy doom is mine. Let chance what will, I love thee to the death!’  To whom the Queen replied with drooping eyes, ‘King and my lord, I love thee to the death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Inferences and/or applied thoughts?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743200" y="1295280"/>
            <a:ext cx="3913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96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When you love you should not say, ‘God is in my heart,’ but rather, ‘I am in the heart of God.’</a:t>
            </a:r>
            <a:br>
              <a:rPr sz="3600"/>
            </a:b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And think not you can direct the course of love, for love, if it finds you worthy, directs your course.” </a:t>
            </a:r>
            <a:br>
              <a:rPr sz="3600"/>
            </a:b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-Kahlil Gibran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urpose of this is for you to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aware of how you think and lea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independent and confident in your own analytical ski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e that what you think in response to what you read is every bit as important as what the author wr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ow the heck to I do all that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38560" y="1766880"/>
            <a:ext cx="3416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rough “Reading on Level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l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the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:   Reading between the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:   Reading beyond the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ree Levels of Reading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l:  What did the author s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nyson’s wor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rential:  What do the author’s words mean to me?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ader’s interpre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d:  Can I apply this to my world today, to human nature, to my own experiences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ader’s appl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   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13  (dedication)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to his memory--since he held them dear, Perchance as finding there unconsciously . .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ferences: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dedication  p. 13,14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followed his conscience to do what he thought right and 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is life, he had one true l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did not give in to the temptations that come with power and 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under the spotlight that comes with fame, his life and record are without fa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 passing was a huge loss for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lied thoughts </a:t>
            </a: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(beyond the book)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ers who are able to remain true to themselves and resist the temptation to abuse their power are admired, yet r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se who have one true love in their life are to be adm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 heroes are rare, that is why we miss them when they are g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01:37:28Z</dcterms:created>
  <dc:creator>FCHS</dc:creator>
  <dc:description/>
  <dc:language>en-US</dc:language>
  <cp:lastModifiedBy>PA Department of Education</cp:lastModifiedBy>
  <dcterms:modified xsi:type="dcterms:W3CDTF">2009-04-13T12:26:58Z</dcterms:modified>
  <cp:revision>27</cp:revision>
  <dc:subject/>
  <dc:title>Idylls of the King - Tennyson</dc:title>
</cp:coreProperties>
</file>