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E9A-A4D3-4CF2-A90D-E50307A5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438-8362-4583-9757-5708339D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57A-E761-4D14-B483-87A98478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FA1-A493-4486-A224-24D96C56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EADB-4E33-4C86-ACE7-C9C95ED8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4EDB-DCE3-4251-99C0-FE585280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F1F9-6733-4143-89CC-51763124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B0AE-BDF7-4713-AF0C-C22A6202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5DAF-925D-4D5F-9CAF-8F1ABE38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1C42-4CE9-48CB-9165-71C451FD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8D0E-6E19-44DB-8202-5AB84E8F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241-FE86-4555-A49E-6167B464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9A29-0245-4ACD-BD14-C052D42F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746C-2E4C-42ED-97B5-0031C7A7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B20D-5FEC-4E57-B59A-48B15B12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624F-849D-4417-B435-721EB157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D29D-F08B-417A-B36E-B302A5D0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0EA-C4BA-442E-9C5D-80A9ABD0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910-EFB2-449C-B08D-680237B5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513-AE7B-428C-9AC6-6A4F218D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49B-D47D-421E-8CE6-CB54F118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209-79CB-496E-9C3D-5D10C8AC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ED6-7ADF-4B35-8E8C-111FA87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C59-71D4-40D7-8B32-3EFC8768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1701-F0B0-4F57-9D48-8C8F91D8F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C913-91A0-43BC-A00E-31A5A736B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mping highways and byways, wandering everywhere bird dogging the sandlots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46280" y="1981080"/>
            <a:ext cx="585144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l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dreaming about discovering a group of very talented (and bearded) ball players out in the country behind a barn.  They run away when he calls to them, never to be ca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feeling the pressure to discover talent in order to show his worth as a scout and to make his living.  This is what drives him.  The dream shows he (like Roy) is internalizing the pressure/confl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mmon human response for inner conflicts to reveal themselves in our subconscious and, therefore, in our d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a long time trying to settle himself comfortably, he fell snoring asleep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7772400" cy="4062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ember as you read this story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etween the lines to bring your own unique insight into the characters and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aracters develop, they reveal their human nature and contribute to story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eyond the words to bring your own world of experiences to the world of Roy Hobb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you offer your inferences and applied thought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 that it’s OK to take ris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 of reaching out, or reaching in for insight is how we grow an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66960" y="2265480"/>
            <a:ext cx="3163680" cy="38275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urpose of this strate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self-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in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st as in this dream he could never shake off”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11280" y="1981080"/>
            <a:ext cx="61200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  Roy dreams about holding a gold baseball and not being sure whether to hold onto it or to let it dr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thinking:  Roy’s dream shows that he is deeply conflicted and unsettled about what he should do about his future in baseball.  The “gold baseball” symbolic of 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ink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eople wrestle with inner conflicts, it sometimes shows up in their drea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authors use dreams as a vehicle to foretell future ev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8-31T16:47:02Z</dcterms:modified>
  <cp:revision>20</cp:revision>
  <dc:subject/>
  <dc:title>The House on Mango Street</dc:title>
</cp:coreProperties>
</file>