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726-CEE7-4DAA-981C-E7E83302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9FE-5C4E-4CD8-864C-15583458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EB9-A3DF-4C0E-BE16-CF61A4B9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5F8-79DD-485E-B8D4-D373D633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8D97-9FFF-4415-A28B-2B570753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B28E-83AC-4A97-8508-669B4D76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06D4-6329-493D-AC19-07B0AAC9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F615-9270-4E91-A831-DE6C53EE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CF99-A1CE-477A-A269-599CDC98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956F-B916-407E-892F-004E1F95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FA6B-D1B4-43A5-8DB2-A4F63518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6C0-D86A-4395-85E6-9E367DE8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FAD2-8486-4AC2-8EB5-28F13B11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D473-C4BB-4ABD-A06F-AE4C8168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AD75-1EEB-4023-A576-48C4707E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52DF-5A15-466B-80BE-B3DAD9E4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DF03-ADEE-450A-9215-DDF62BA3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DB8-0C34-4081-8A1D-9C1FCFDC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CD9-937F-4E4F-AA5A-25794414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5AF-CBD1-459C-9215-2C50A1FD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C57-18DF-4F34-812F-EE806651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967-FE17-4BA3-A5DF-F2BCF00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2AD-8020-48F4-8C2B-D00E9CD4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436-9DB4-4167-B96A-EBF65A49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B32F-DC5B-47EC-8F03-1348D3943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6BE6-A2FB-499F-B391-EBB2ED96B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mping highways and byways, wandering everywhere bird dogging the sandlots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46280" y="1981080"/>
            <a:ext cx="585144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l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dreaming about discovering a group of very talented (and bearded) ball players out in the country behind a barn.  They run away when he calls to them, never to be ca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feeling the pressure to discover talent in order to show his worth as a scout and to make his living.  This is what drives him.  The dream shows he (like Roy) is internalizing the pressure/confl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mmon human response for inner conflicts to reveal themselves in our subconscious and, therefore, in our d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a long time trying to settle himself comfortably, he fell snoring asleep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7772400" cy="4062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ember as you read this story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etween the lines to bring your own unique insight into the characters and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aracters develop, they reveal their human nature and contribute to story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eyond the words to bring your own world of experiences to the world of Roy Hobb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you offer your inferences and applied thought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 that it’s OK to take ris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 of reaching out, or reaching in for insight is how we grow an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66960" y="2265480"/>
            <a:ext cx="3163680" cy="38275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urpose of this strate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self-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in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st as in this dream he could never shake off”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11280" y="1981080"/>
            <a:ext cx="61200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  Roy dreams about holding a gold baseball and not being sure whether to hold onto it or to let it dr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thinking:  Roy’s dream shows that he is deeply conflicted and unsettled about what he should do about his future in baseball.  The “gold baseball” symbolic of 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ink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eople wrestle with inner conflicts, it sometimes shows up in their drea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authors use dreams as a vehicle to foretell future ev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8-31T16:47:02Z</dcterms:modified>
  <cp:revision>20</cp:revision>
  <dc:subject/>
  <dc:title>The House on Mango Street</dc:title>
</cp:coreProperties>
</file>