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E78-E6F0-4625-B090-E5497B26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B6D-4EAF-4503-9925-DDDA1FFF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D85-6957-4F93-ADBB-DDFB31E5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DBC-9EE2-460B-96D3-F059DBAD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F069-41B8-437A-9E2F-60907F11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5878-5AA7-4271-93AF-512AA844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DF0F-970A-496B-B967-7CC07CD3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DCC5-64AC-4A1C-BDA0-AF036E91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8EE7-2BF0-4EAC-908F-7FEC71A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D91E-2E1B-4ADF-A3FD-8A89DA39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9FA0-06F8-4640-907D-D056A003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7ED-2B39-452A-9866-191EFD74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8D6C-0A3F-4C28-8347-3AEF86E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90E2-47A3-4291-9718-8B928F02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D1F2-6834-40AB-9914-1AC0AC24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E011-F02F-4AFF-B307-D78FC858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874A-6113-494A-A010-8E5C6FD9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678-C629-4CD1-AD02-8EAB84BD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339-7D3E-4527-8F46-196BEB8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638-A356-4D53-81D2-F252950D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A16-09D5-4BD8-9D87-07C8ADDB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2F8-7163-457B-9BDB-62E939E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B4F-7F8F-413F-81E6-70CAC2E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A3C-BB82-4CCC-8E4A-65081E98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8670-C783-473A-8E0D-7BB72B3F4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E24E-71D5-4393-9116-FA6C3975E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mping highways and byways, wandering everywhere bird dogging the sandlots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46280" y="1981080"/>
            <a:ext cx="58514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l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dreaming about discovering a group of very talented (and bearded) ball players out in the country behind a barn.  They run away when he calls to them, never to be c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feeling the pressure to discover talent in order to show his worth as a scout and to make his living.  This is what drives him.  The dream shows he (like Roy) is internalizing the pressure/confl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mon human response for inner conflicts to reveal themselves in our subconscious and, therefore, in our d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a long time trying to settle himself comfortably, he fell snoring asleep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7772400" cy="4062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 as you read this story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etween the lines to bring your own unique insight into the characters an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aracters develop, they reveal their human nature and contribute to story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eyond the words to bring your own world of experiences to the world of Roy Hobb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you offer your inferences and applied thought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it’s OK to take ris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reaching out, or reaching in for insight is how we grow an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66960" y="2265480"/>
            <a:ext cx="3163680" cy="3827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urpose of this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self-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in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st as in this dream he could never shake off”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  Roy dreams about holding a gold baseball and not being sure whether to hold onto it or to let it dr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thinking:  Roy’s dream shows that he is deeply conflicted and unsettled about what he should do about his future in baseball.  The “gold baseball” symbolic of 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ink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eople wrestle with inner conflicts, it sometimes shows up in their drea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uthors use dreams as a vehicle to foretell future ev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8-31T16:47:02Z</dcterms:modified>
  <cp:revision>20</cp:revision>
  <dc:subject/>
  <dc:title>The House on Mango Street</dc:title>
</cp:coreProperties>
</file>