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77F-A066-4A93-BE6A-2B39C6D9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E72-16F1-4D20-9E32-C7E6B935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D0E-0F3A-4224-A338-E0C4AD9C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3A6-4FAC-45DA-9839-EC353C63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34DA-7BB1-4907-B53E-A3DA9B6F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3D2D-D50E-4460-B70C-010F85C0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52FA-8E44-4E3C-8A96-E0E07B08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71D9-9314-4AD4-A14A-CFB66DF7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92DA-DB96-45FE-BADF-E773A401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42D4-3C94-4731-81E2-9BDAE61F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E7EC-F4EE-4F35-AEBF-3F223BDB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E89-A219-4BF9-AD4A-427A7EA7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D487-7359-470C-894A-31F7CA04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59A3-5DDB-49F2-883F-C01F0A9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5DFC-E559-473B-879A-7EFD529B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FF1B-AB43-4F3F-B34D-26526295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DF86-61CC-4508-8E49-61D7FA1F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66D-09DE-4F56-8C0C-8311FB3C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7C0-29FE-4419-9EFA-E29BC4F8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2C0-7AE6-45FE-BADF-D439DCEE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FE5-6229-4742-9B15-855C998C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904-F672-4CEA-9AE2-1F69CC6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82A-C35D-4F8F-ACC0-1E26FB0B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729-B8AA-42F3-A3FE-CC4771FB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271-F91A-411F-B11D-84F5B7E5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9AD1-9D5C-426E-A5B2-00355484D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mping highways and byways, wandering everywhere bird dogging the sandlots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46280" y="1981080"/>
            <a:ext cx="58514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l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dreaming about discovering a group of very talented (and bearded) ball players out in the country behind a barn.  They run away when he calls to them, never to be c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feeling the pressure to discover talent in order to show his worth as a scout and to make his living.  This is what drives him.  The dream shows he (like Roy) is internalizing the pressure/confl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mon human response for inner conflicts to reveal themselves in our subconscious and, therefore, in our d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a long time trying to settle himself comfortably, he fell snoring asleep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7772400" cy="4062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 as you read this story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etween the lines to bring your own unique insight into the characters an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aracters develop, they reveal their human nature and contribute to story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eyond the words to bring your own world of experiences to the world of Roy Hobb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you offer your inferences and applied thought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it’s OK to take ris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reaching out, or reaching in for insight is how we grow an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66960" y="2265480"/>
            <a:ext cx="3163680" cy="3827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urpose of this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self-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in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st as in this dream he could never shake off”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  Roy dreams about holding a gold baseball and not being sure whether to hold onto it or to let it dr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thinking:  Roy’s dream shows that he is deeply conflicted and unsettled about what he should do about his future in baseball.  The “gold baseball” symbolic of 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ink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eople wrestle with inner conflicts, it sometimes shows up in their drea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uthors use dreams as a vehicle to foretell future ev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8-31T16:47:02Z</dcterms:modified>
  <cp:revision>20</cp:revision>
  <dc:subject/>
  <dc:title>The House on Mango Street</dc:title>
</cp:coreProperties>
</file>