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F4AA-7D1A-422C-BDE4-5F457DE2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C83-78D9-4E5E-AF7B-ACA8BC6D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7AFA-9A12-4442-9E2F-AD4E085C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F617-0F58-40CB-A82C-77F53BE6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D852-9C5E-4A53-9AEA-1F8A9595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7D27-0EB4-457D-908B-7C2A78B6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7E0D-497C-41DB-ABE6-A74074AE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B504-A809-4323-A537-D782EE78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1D5A-D723-43EE-AF53-27A7BB0A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6EED-5D16-4ACB-9A1E-14A2077F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5634-D8BB-4B99-8C26-D1E28471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8DE4-DF1E-484E-8063-182CDC30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9D0C-5B67-4226-A8BC-D30FB861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2349-94B8-4EA0-9E0F-EFBE667D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5E97-2223-4975-A952-F37753CF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19D8-4B21-4CC4-965B-63777D86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16EE-1D81-4F84-908E-BF3F28DA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64CA-959E-4D10-B52D-595D725D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786-80BE-4255-A107-4D18F993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2895-591E-4E29-984C-365F9150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0CC1-D805-4A1B-8BBE-B67AEEAA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566C-9B34-461C-9934-F01D418C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7810-1733-49D8-9D1B-6F92BC7E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282-8243-4F75-9E05-E65B81AA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5F3F-69A4-4EBA-B1B0-C82CC0B3F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78A4-8491-4E4F-9B90-A117EF973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he Natural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nd Thinking on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mping highways and byways, wandering everywhere bird dogging the sandlots . . .”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46280" y="1981080"/>
            <a:ext cx="585144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teral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 is dreaming about discovering a group of very talented (and bearded) ball players out in the country behind a barn.  They run away when he calls to them, never to be cau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ce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 is feeling the pressure to discover talent in order to show his worth as a scout and to make his living.  This is what drives him.  The dream shows he (like Roy) is internalizing the pressure/confli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 thought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mmon human response for inner conflicts to reveal themselves in our subconscious and, therefore, in our dre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a long time trying to settle himself comfortably, he fell snoring asleep . . .”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5800" y="2006640"/>
            <a:ext cx="7772400" cy="406224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r thought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though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member as you read this story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between the lines to bring your own unique insight into the characters and sit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characters develop, they reveal their human nature and contribute to story the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beyond the words to bring your own world of experiences to the world of Roy Hobbs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Natu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 you offer your inferences and applied thoughts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e that it’s OK to take ris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ct of reaching out, or reaching in for insight is how we grow and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966960" y="2265480"/>
            <a:ext cx="3163680" cy="382752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Academic Standard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11.A.1 - Demonstrate the ability to understand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ctional text, novel excerpt, and poetry, appropriate to grade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urpose of this strateg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077320" cy="4267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self-aware of how you think and lea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independent and confident in your own analytical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e that what you think in response to what you read is as important as what the author wr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tuned in to the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vels of thought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 - reading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 - read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- reading and think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y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re on the levels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he author’s words and use of language.  (vocabulary challen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eren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Your interpretation of what those words mean.  (self-awareness, self-confid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Going beyond the story and characters and finding analogies or similarities in other reads or your own life experiences -- observations on human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ust as in this dream he could never shake off”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511280" y="1981080"/>
            <a:ext cx="612000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dream he could never shake off .  . 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:  Roy dreams about holding a gold baseball and not being sure whether to hold onto it or to let it dr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dream he could never shake off .  . 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 thinking:  Roy’s dream shows that he is deeply conflicted and unsettled about what he should do about his future in baseball.  The “gold baseball” symbolic of .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dream he could never shake off .  . 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thinking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people wrestle with inner conflicts, it sometimes shows up in their dream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authors use dreams as a vehicle to foretell future eve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3:40:14Z</dcterms:created>
  <dc:creator>Teacher</dc:creator>
  <dc:description/>
  <dc:language>en-US</dc:language>
  <cp:lastModifiedBy>Teacher FCASD</cp:lastModifiedBy>
  <dcterms:modified xsi:type="dcterms:W3CDTF">2011-08-31T16:47:02Z</dcterms:modified>
  <cp:revision>20</cp:revision>
  <dc:subject/>
  <dc:title>The House on Mango Street</dc:title>
</cp:coreProperties>
</file>