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762-FBD3-4256-8748-D330041D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4D3E-F67A-448B-832F-3111365B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A6C1-2F19-4592-B7A5-036C0D97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EF10-C8E2-4E14-9900-4ACA943A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6615-43F6-4046-B4EE-60D77218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F8C5-24F2-4515-84B1-AB0397F5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B49E-B340-4516-9F2A-937A4814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A1D2-4889-43B0-8E3B-9C120A91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1C77-6AB1-4430-924A-029FE4CB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3C7D-4591-4EDC-831C-A53DF3CD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E1B9-4D6C-4531-895D-EAF2F436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EE1D-9124-41D2-96EB-32E15DF7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F8B4-DDB0-4588-84EE-865824FC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F4B7-8F29-4E43-9720-8B64ADFE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1426-C937-49BE-B484-8937BAE9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7E13-A457-482A-883F-2BFD2E67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4157-1950-4080-BE80-52CEF051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E217-B478-4B97-B40C-9D881252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9DE6-74BF-4EF6-AD3D-0364FD55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AA5-C1E6-4C43-A01C-A07DB5BC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FA8C-5516-4AED-9AEC-D9BB598D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A403-E702-49D1-8AEE-572C3DAC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4378-BED5-4040-B0AF-5ED8D681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F20-DBDA-4542-A2D8-705D51EB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011C-45F5-4B01-926D-CCCCFE9AD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7610-DE3C-4F35-8F67-8EFDC8C01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he Natural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nd Thinking on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mping highways and byways, wandering everywhere bird dogging the sandlots . . .”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46280" y="1981080"/>
            <a:ext cx="585144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teral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 is dreaming about discovering a group of very talented (and bearded) ball players out in the country behind a barn.  They run away when he calls to them, never to be cau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ce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 is feeling the pressure to discover talent in order to show his worth as a scout and to make his living.  This is what drives him.  The dream shows he (like Roy) is internalizing the pressure/confli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 thought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mmon human response for inner conflicts to reveal themselves in our subconscious and, therefore, in our dre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a long time trying to settle himself comfortably, he fell snoring asleep . . .”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5800" y="2006640"/>
            <a:ext cx="7772400" cy="406224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r thought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though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member as you read this story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between the lines to bring your own unique insight into the characters and sit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characters develop, they reveal their human nature and contribute to story the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beyond the words to bring your own world of experiences to the world of Roy Hobbs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Natu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 you offer your inferences and applied thoughts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e that it’s OK to take ris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ct of reaching out, or reaching in for insight is how we grow and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966960" y="2265480"/>
            <a:ext cx="3163680" cy="382752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Academic Standard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11.A.1 - Demonstrate the ability to understand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ctional text, novel excerpt, and poetry, appropriate to grade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urpose of this strateg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077320" cy="4267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self-aware of how you think and lea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independent and confident in your own analytical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e that what you think in response to what you read is as important as what the author wr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tuned in to the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vels of thought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 - reading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 - read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- reading and think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y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re on the levels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he author’s words and use of language.  (vocabulary challen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eren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Your interpretation of what those words mean.  (self-awareness, self-confid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Going beyond the story and characters and finding analogies or similarities in other reads or your own life experiences -- observations on human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ust as in this dream he could never shake off”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511280" y="1981080"/>
            <a:ext cx="612000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dream he could never shake off .  . 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:  Roy dreams about holding a gold baseball and not being sure whether to hold onto it or to let it dr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dream he could never shake off .  . 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 thinking:  Roy’s dream shows that he is deeply conflicted and unsettled about what he should do about his future in baseball.  The “gold baseball” symbolic of .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dream he could never shake off .  . 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thinking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people wrestle with inner conflicts, it sometimes shows up in their dream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authors use dreams as a vehicle to foretell future eve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3:40:14Z</dcterms:created>
  <dc:creator>Teacher</dc:creator>
  <dc:description/>
  <dc:language>en-US</dc:language>
  <cp:lastModifiedBy>Teacher FCASD</cp:lastModifiedBy>
  <dcterms:modified xsi:type="dcterms:W3CDTF">2011-08-31T16:47:02Z</dcterms:modified>
  <cp:revision>20</cp:revision>
  <dc:subject/>
  <dc:title>The House on Mango Street</dc:title>
</cp:coreProperties>
</file>