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1F74-0141-47F9-85F6-CD4B449A7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7957-4C95-4884-A458-F1982CCB2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3D5A-05CF-401A-9C57-68AB274BC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E740-A3D9-47CC-849E-645B4612B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BFE3-3F28-4358-9AF8-9F02EE6D0D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A0387-7169-40FE-AE69-23B4D175AE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58E73-D2DC-4C4D-B0AB-76C175C1F7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73D8A-F21B-43E8-ABF3-959F951D3C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D6543-E5ED-473F-8E61-C833143FD6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E966-F339-45D6-AB0A-31152AD254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5F3E4-234D-481C-A4A3-132553534D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6982-1955-4ADB-B10E-F62FCDA1F0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24D76-6FC7-4080-B487-567AA8D9AE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CD1AF-CAF3-4CE1-9932-F010291587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E73A1-CD81-4100-AC19-8945F82C7A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79FFC-CE46-4789-A596-BB44011441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BC14-DAF8-4802-9467-A02E10953E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4104-04E3-49E3-B79F-C5A9DAAEB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B8A1-D0FC-4F82-AF87-EC747BC2A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C229-F63C-4566-9E98-0B4F4C1D1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17CE-79AD-47EB-9056-A7E4A4248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FE38-6F43-458B-A405-A20EBAA12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4443-108E-4EA7-9BEA-4ECA1DD12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096C-40B3-4578-B0FF-6769B17EB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t">
            <a:normAutofit fontScale="72000"/>
          </a:bodyPr>
          <a:p>
            <a:pPr marL="284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27800" y="6248160"/>
            <a:ext cx="3542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39CD-0C01-48F8-B19D-41ACCAA1B23E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27800" y="6248160"/>
            <a:ext cx="3542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D2CE-158C-4A7C-A7F0-06160D54E4C1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Signal words and writing prompts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acilitating higher level thinking skill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Need both reader and author input when: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Analyz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terpret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Evaluat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generaliz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Writing prompts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ading passage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horter in length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Higher in rigor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82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Lend themselves to analysis, evaluation, interpretation, etc.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Target passage type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ction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tory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Poem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Non-Fiction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Biography (auto) OR practical/how-to/advertisemen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Essay/editoria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Promp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lated to a PA reading standard/anchor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corporate language of the standard/anchor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Ask for supporting details/examples from passag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Writing prompt respons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Need to respond directly in first sentence or two 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Incorporate key words/phrases from promp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Cite evidence from text to suppor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hould support with more than one essential detai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consider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tudent response should be brief and to the point: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5 or 6 sentences max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PSSA rubric for open ended reading item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cluded in handou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amiliarize students with the languag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let students evaluate other responses using the rubric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Signal word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pperplate Gothic Light"/>
              </a:rPr>
              <a:t>Analyze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 - break apart, examine methodically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Reader’s voice as well as author’s 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ite evidenc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Mention in support (of a thesis statement); refer to as an exampl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pecifics using quotes or paraphrasing essential detail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ompare/contras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When asked to evaluate two related passage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Make a judgment after weighing specific evidence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Judgment is reader’s evaluation of what author write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pecific evidence (in text) should correlate/support judgmen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Generaliz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Draw conclusions based upon presented information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Correlation/support with essential specific details (in text)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Interpre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Provide meaning:  make it clear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aders should use own languag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Sentence starters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Using language of PSSA Anchors, PA Reading Standard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interpret and/or analyze the effect of . .”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clude the impact/effect upon the reader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acher FCASD</dc:creator>
  <dc:description/>
  <dc:language>en-US</dc:language>
  <cp:lastModifiedBy/>
  <cp:revision>0</cp:revision>
  <dc:subject/>
  <dc:title>Signal words and writing prompts</dc:title>
</cp:coreProperties>
</file>