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55AB4-3E20-4753-85AF-858F99463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2F1E-C68B-4320-A62B-81D89FAE4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D4201-1112-40B9-9A4D-9AAD323BD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7234C-2653-4EA8-BF31-5C3949088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006E6-C765-41AA-9165-6B986AB1C1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2497-D5C5-4DFD-B405-E0D8D5BFA6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93095-EE10-4D07-95BE-53A80D3F0C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80ADA-51ED-4BFA-9821-F2FE58309F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F14DF-890F-457E-9596-E77780F354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E1C27-2604-4D9D-B3BC-CF26B6660D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C16A-389B-4B8F-AA92-BCC22F9A61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17FB-D9DC-4061-92ED-B1CAC9FDF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7E804-8F4B-4BDA-9F56-76B8EE57E6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EC17-C8F3-4E94-80C9-F8DB1BA19E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8C4C7-E69C-49AA-A885-C59DC6A0B7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5A36-F762-4A1A-BC5E-6290E994A2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BAD38-850A-490B-A7E3-793090776C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7A52-1F30-420D-B55B-8A4B10D7E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3653-36E3-4466-B0C5-DE788066B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AF85-C009-4B48-B273-F6F0AAA2D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A17F9-AF39-4737-8A47-9F9B9493A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ABE1-6566-4DF0-B5A3-D3B8353A9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A795-3B88-46C6-B4D1-182A838A3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4185-2100-4879-8F59-F38B31E4B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t">
            <a:normAutofit fontScale="72000"/>
          </a:bodyPr>
          <a:p>
            <a:pPr marL="284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27800" y="6248160"/>
            <a:ext cx="3542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B56F-60FF-4E8A-A1E9-1DD877CB675E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27800" y="6248160"/>
            <a:ext cx="3542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66A9-9ACB-4BB1-8047-01247EEE7CAB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Signal words and writing prompts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acilitating higher level thinking skill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Need both reader and author input when: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Analyz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terpret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Evaluat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generaliz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Writing prompts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ading passage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horter in length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Higher in rigor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82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Lend themselves to analysis, evaluation, interpretation, etc.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Target passage type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ction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tory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Poem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Non-Fiction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Biography (auto) OR practical/how-to/advertisemen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Essay/editoria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Promp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lated to a PA reading standard/anchor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corporate language of the standard/anchor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Ask for supporting details/examples from passag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Writing prompt respons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Need to respond directly in first sentence or two 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Incorporate key words/phrases from promp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Cite evidence from text to suppor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hould support with more than one essential detai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consider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tudent response should be brief and to the point: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5 or 6 sentences max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PSSA rubric for open ended reading item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cluded in handou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amiliarize students with the languag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let students evaluate other responses using the rubric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Signal word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pperplate Gothic Light"/>
              </a:rPr>
              <a:t>Analyze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 - break apart, examine methodically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Reader’s voice as well as author’s 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ite evidenc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Mention in support (of a thesis statement); refer to as an exampl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pecifics using quotes or paraphrasing essential detail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ompare/contras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When asked to evaluate two related passage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Make a judgment after weighing specific evidence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Judgment is reader’s evaluation of what author write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pecific evidence (in text) should correlate/support judgmen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Generaliz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Draw conclusions based upon presented information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Correlation/support with essential specific details (in text)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Interpre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Provide meaning:  make it clear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aders should use own languag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Sentence starters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Using language of PSSA Anchors, PA Reading Standard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interpret and/or analyze the effect of . .”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clude the impact/effect upon the reader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acher FCASD</dc:creator>
  <dc:description/>
  <dc:language>en-US</dc:language>
  <cp:lastModifiedBy/>
  <cp:revision>0</cp:revision>
  <dc:subject/>
  <dc:title>Signal words and writing prompts</dc:title>
</cp:coreProperties>
</file>