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24146-2B5D-4396-A083-CE8832D54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CA5E9-7352-48A2-B27F-28C6AAFDA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23B1D-8EED-415C-9DA8-28EEE456E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DEFD2-7BF0-4F95-9EA0-2E9722C3F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4CFDA-D4AB-41E4-BEDC-6DA918D0A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80BFB-7F70-4D2D-8287-0BEBE4704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FB57C-9EC1-4A13-9A7F-A975E5E84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B4EAE-4F19-4DED-83E6-83EEAE0C2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29626-8279-42DC-A8AC-3E30B95FE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CB376-FF16-4E01-8907-9596CF1B6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963F1-149E-4F45-9309-F1ABEB8A3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82193-69FA-4138-A833-1F09BD5F3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96CC0-8C8B-4FA1-B45B-4D6C1FBB8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30701-5568-417F-ABC6-B4B8DF234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4208B-4E24-46F5-91EB-CEF63C424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8268A-C05F-4062-AB70-6B52377EA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44ED0-09D6-4948-8629-D4D03FB55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6B7D1-FE18-4156-A490-A6C77D867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9DF00-3558-41A6-89B4-621046BBB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CD6BA-0FA9-42AF-947A-6A8AC5055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DC5F6-539E-46DB-BC7B-55B83A828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62BBF-83AB-45C6-A284-6133FB482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BDB8C-BC7C-4757-B821-D882FD0BC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6B5ED-B026-40E7-9B24-C089C2958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C3B90-56C2-454F-9696-4E16DB8EFF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183B6-EC47-4C3E-9F7C-9909ABAC0E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ink-aloud survey: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e you using the strategi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e you using them in other class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 you find some strategies more usefu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ent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ferential reflections: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ticus probably did what would have been expected of him by coming back home after getting his educ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ticus did not always agree with the court’s idea of justice and it bothered h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ticus was the kind of person who put others ahead of himself (brothe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ticus was comfortable with his “station” in lif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pplied thoughts: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times people remain in their home town because it is more comfortable (friends, family, etc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reme stubbornness usually leads to misfortu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a small town, everybody usually knows everybo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tticus was feeble: he was nearly fifty.  When Jem and I asked him .  .  .”  chapter 10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ticus was older than Scout’s friends’ and classmates’ pare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ut felt she couldn’t brag about her father, his job, or his abilit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4648320" y="2602080"/>
            <a:ext cx="3809880" cy="2871720"/>
          </a:xfrm>
          <a:prstGeom prst="rect">
            <a:avLst/>
          </a:prstGeom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ferences: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ut wanted badly to boast to her friends about her fa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e wished her father had a more exciting job &amp; lifesty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e wanted Atticus to be more like other men in Maycom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4648320" y="2411280"/>
            <a:ext cx="3809880" cy="3252960"/>
          </a:xfrm>
          <a:prstGeom prst="rect">
            <a:avLst/>
          </a:prstGeom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pplied thoughts: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ids love to brag to friends about their par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child’s idea of adult accomplishment &amp; success differs greatly from the adult point of view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Jem was thunderstruck .  .  .”  p. 128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literal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lpurnia explains why she speaks very differently (dialect) when in the black community than when she is in the Finch househol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685800" y="2184480"/>
            <a:ext cx="3809880" cy="3706560"/>
          </a:xfrm>
          <a:prstGeom prst="rect">
            <a:avLst/>
          </a:prstGeom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ferences: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ut and Jem were learning that Calpurnia had to exist almost as two different persons in order to best survive in two different cultur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lpurnia was very wise in the ways of human natu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ut was newly impressed with Calpurnia and had become curious about her “other” lif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pplied: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ople learn to adapt their ways to their surroundings and the people they deal with in their liv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4648320" y="2184480"/>
            <a:ext cx="3809880" cy="3706560"/>
          </a:xfrm>
          <a:prstGeom prst="rect">
            <a:avLst/>
          </a:prstGeom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eading/thinking on 3 levels: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d the lines the author has writt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d/think between the lines to make inferences as to what is impli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nk outside the limits of the story to draw conclusions that reach far beyond to the world beyo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etacognitive Strategies: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.  Think-alou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.  Thinking on lev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Times New Roman"/>
              </a:rPr>
              <a:t>To Kill a Mockingbird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ding and Thinking on Lev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eading Academic Standard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 11.A.1 - Demonstrate the ability to understand,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interpre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&amp;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nalyz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ictional text, novel excerpts, and poetry, appropriate to grade leve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ssential Questions (KUeD)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what ways to characters in literature reveal their true personaliti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I make connections between the characters in this story an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ople I know in my own life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racters from other works of literature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is strategy is to help you to: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904760"/>
            <a:ext cx="8077320" cy="42670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 fontScale="94000"/>
          </a:bodyPr>
          <a:p>
            <a:pPr lvl="2" marL="10742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come mor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elf-awa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your own learning proc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come independent and confident in your own analytical skill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e that what you think in response to what you read is as important as what the author wri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come more tuned in to them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vels of thought . . .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teral - reading the words and lin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erential - reading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betwee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e words and lin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ed - reading and thinking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beyo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e words and lin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ore on the levels . . .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itera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 The author’s words and use of language.  (vocabulary challeng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ferentia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 Your interpretation of what those words mean.  (self-awareness, self-confiden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ppli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 Going beyond the story and characters and finding analogies or similarities to other reads or your own life experiences -- observations on human na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en my father was admitted to the bar . . .” (literal)   p.9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ther came back to simple law practice in home town, Mayco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endents were too stupid/stubborn to take plea bargain:  hang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icus didn’t really like practicing la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icus helped brother through med sch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1149480" y="1981080"/>
            <a:ext cx="2882880" cy="4114800"/>
          </a:xfrm>
          <a:prstGeom prst="rect">
            <a:avLst/>
          </a:prstGeom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30T13:40:14Z</dcterms:created>
  <dc:creator>Teacher</dc:creator>
  <dc:description/>
  <dc:language>en-US</dc:language>
  <cp:lastModifiedBy>Teacher FCASD</cp:lastModifiedBy>
  <dcterms:modified xsi:type="dcterms:W3CDTF">2011-09-15T15:32:52Z</dcterms:modified>
  <cp:revision>31</cp:revision>
  <dc:subject/>
  <dc:title>The House on Mango Street</dc:title>
</cp:coreProperties>
</file>