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BED3E-07F3-49ED-BC37-17E04ADAB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86137-E937-4E1A-90C3-A4A310B8B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A8EB1-A395-431F-8610-05E0168F7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89D8D-340E-4554-83E1-471387A9E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2BD7A-B6E6-4ECE-B027-7469D02D7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37B85-A9B0-4295-BEF7-11A5C7C9B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3BC55-9FAB-41A2-8B5D-2B69AF9C8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18C6F-B22D-48F5-A1A8-2200F592D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2F3AF-644F-42A6-BFCB-5D96FCE1A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24148-1C5A-4E35-9FAF-D0534FCD9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031D9-3173-4EF6-B6B7-48E6692C8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DF81E-02E9-487F-BAD9-A8740FDB6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3EF5F-3E31-4C75-A5B2-2CAF550A6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E6F38-5334-49D3-9D56-24E9DCCDC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E9877-8232-455E-A850-463142EA5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6C4D9-C134-43EB-BF9F-9EF7D9AE2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86EF8-7358-4C34-BAFA-2EAA51EDE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DD001-CA61-45A6-8724-70EC68A6E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5CB13-0700-4AB7-ACAC-21D7E7926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8B77E-E139-4AFA-9AC2-14E4DD8ED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997D5-CBC8-4646-8C30-C4C56242E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2885A-464D-4DC5-8F80-0301149FC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4ABED-32BB-4EF4-9E32-3D1BA9BF7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F8AE5-F5D8-43BC-A6AB-BC3EC351B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C0805-6E1B-47E0-B5F9-0DBB760001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95C86-D9B3-4A7F-A713-10A8A30108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ink-aloud survey: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e you using the strategi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e you using them in other class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 you find some strategies more usefu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ent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ferential reflections: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ticus probably did what would have been expected of him by coming back home after getting his educ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ticus did not always agree with the court’s idea of justice and it bothered h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ticus was the kind of person who put others ahead of himself (brothe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ticus was comfortable with his “station” in lif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pplied thoughts: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times people remain in their home town because it is more comfortable (friends, family, etc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reme stubbornness usually leads to misfortu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a small town, everybody usually knows everybo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tticus was feeble: he was nearly fifty.  When Jem and I asked him .  .  .”  chapter 10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ticus was older than Scout’s friends’ and classmates’ pare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ut felt she couldn’t brag about her father, his job, or his abilit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4648320" y="2602080"/>
            <a:ext cx="3809880" cy="2871720"/>
          </a:xfrm>
          <a:prstGeom prst="rect">
            <a:avLst/>
          </a:prstGeom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ferences: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ut wanted badly to boast to her friends about her fa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e wished her father had a more exciting job &amp; lifesty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e wanted Atticus to be more like other men in Maycom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4648320" y="2411280"/>
            <a:ext cx="3809880" cy="3252960"/>
          </a:xfrm>
          <a:prstGeom prst="rect">
            <a:avLst/>
          </a:prstGeom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pplied thoughts: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ids love to brag to friends about their par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child’s idea of adult accomplishment &amp; success differs greatly from the adult point of view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Jem was thunderstruck .  .  .”  p. 128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literal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lpurnia explains why she speaks very differently (dialect) when in the black community than when she is in the Finch househol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685800" y="2184480"/>
            <a:ext cx="3809880" cy="3706560"/>
          </a:xfrm>
          <a:prstGeom prst="rect">
            <a:avLst/>
          </a:prstGeom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ferences: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ut and Jem were learning that Calpurnia had to exist almost as two different persons in order to best survive in two different cultur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lpurnia was very wise in the ways of human natu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ut was newly impressed with Calpurnia and had become curious about her “other” lif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pplied: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ople learn to adapt their ways to their surroundings and the people they deal with in their liv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4648320" y="2184480"/>
            <a:ext cx="3809880" cy="3706560"/>
          </a:xfrm>
          <a:prstGeom prst="rect">
            <a:avLst/>
          </a:prstGeom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eading/thinking on 3 levels: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d the lines the author has writt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d/think between the lines to make inferences as to what is impli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nk outside the limits of the story to draw conclusions that reach far beyond to the world beyo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etacognitive Strategies: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.  Think-alou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.  Thinking on lev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Times New Roman"/>
              </a:rPr>
              <a:t>To Kill a Mockingbird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ding and Thinking on Lev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eading Academic Standard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 11.A.1 - Demonstrate the ability to understand,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interpre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&amp;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nalyz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ictional text, novel excerpts, and poetry, appropriate to grade leve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ssential Questions (KUeD)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what ways to characters in literature reveal their true personaliti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I make connections between the characters in this story an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ople I know in my own life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racters from other works of literature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is strategy is to help you to: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904760"/>
            <a:ext cx="8077320" cy="42670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 fontScale="94000"/>
          </a:bodyPr>
          <a:p>
            <a:pPr lvl="2" marL="10742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come mor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elf-awa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your own learning proc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come independent and confident in your own analytical skill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e that what you think in response to what you read is as important as what the author wri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come more tuned in to them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vels of thought . . .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teral - reading the words and lin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erential - reading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betwee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e words and lin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ed - reading and thinking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beyo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e words and lin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ore on the levels . . .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itera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 The author’s words and use of language.  (vocabulary challeng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ferentia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 Your interpretation of what those words mean.  (self-awareness, self-confiden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ppli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 Going beyond the story and characters and finding analogies or similarities to other reads or your own life experiences -- observations on human na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en my father was admitted to the bar . . .” (literal)   p.9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ther came back to simple law practice in home town, Mayco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endents were too stupid/stubborn to take plea bargain:  hang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icus didn’t really like practicing la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icus helped brother through med sch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1149480" y="1981080"/>
            <a:ext cx="2882880" cy="4114800"/>
          </a:xfrm>
          <a:prstGeom prst="rect">
            <a:avLst/>
          </a:prstGeom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30T13:40:14Z</dcterms:created>
  <dc:creator>Teacher</dc:creator>
  <dc:description/>
  <dc:language>en-US</dc:language>
  <cp:lastModifiedBy>Teacher FCASD</cp:lastModifiedBy>
  <dcterms:modified xsi:type="dcterms:W3CDTF">2011-09-15T15:32:52Z</dcterms:modified>
  <cp:revision>31</cp:revision>
  <dc:subject/>
  <dc:title>The House on Mango Street</dc:title>
</cp:coreProperties>
</file>