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318-2962-466F-9C4E-F93BCAFE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93A-1E7D-4336-A131-5AC2733B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8A6-CE1A-4E44-828A-4714EB1C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C2F-7C01-4E1A-BED5-CEE7AF9D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445F-3876-4C02-BCAC-8B8FDD33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8037-4969-4074-89B9-F233492F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A7F3-A3CC-448C-B351-E12E747E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E2B8-BA9A-47E4-8D7D-710746FD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6D4F-BB3E-4E0C-9566-7004574B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EEC-E99D-444E-AADB-696A31B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F7BB-EA3E-42FE-B5C8-9E672F6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D89-D7C3-4633-AA2C-8366AEBA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03D5-C547-43EF-A493-DDDBFEF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A5EC-A907-4F53-B474-2E72C3C6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C26D-5E2C-4406-85DF-93355797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9E9A-222E-468D-A9EA-8CE39374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41F3-CA8D-4149-B467-68A834EB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36F-BC66-4F5F-9377-97A11261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D82-7182-4AE7-92D2-43815F88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FAD-4FFC-4375-9456-2D48A808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6E7-4530-455E-8137-DF2D0880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FF3-CFE0-4F8C-8F87-EC80FF8B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FEA-B7AE-4B1B-B94C-31BC812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FAB-5237-40B1-A0EB-2EEDDEC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517D-5E84-47FE-8FD5-609BD285DAAD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5F7B-D90D-457C-A1D1-9828CF1A1657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Gatsb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ree level reading introduction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064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You can’t relive the pas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Concentrate on yesterday and you’ll lose toda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elfish pursuits seldom deliver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2746440"/>
            <a:ext cx="38102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made people feel they were special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was vivacious, full of life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here was an aura of excitement, yet mystery and even sadness about Dais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30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Go out of your way to pay special attention to someone and they’ll never forget you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ome people are exciting to be with even when little is actually happening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11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ortance of visualizing:</a:t>
            </a:r>
            <a:endParaRPr b="0" lang="en-US" sz="32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“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We walked through a high hallway into a brightly colored space . .“  </a:t>
            </a:r>
            <a:r>
              <a:rPr b="0" lang="en-US" sz="1200" spc="-1" strike="noStrike">
                <a:solidFill>
                  <a:srgbClr val="cccccc"/>
                </a:solidFill>
                <a:latin typeface="Times New Roman"/>
              </a:rPr>
              <a:t>p. 8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2519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summation: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ad and appreciate F. Scott Fitzgerald’s use of language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ink on different levels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Visualize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Don’t just read, but </a:t>
            </a:r>
            <a:r>
              <a:rPr b="1" lang="en-US" sz="2800" spc="-1" strike="noStrike" u="sng">
                <a:solidFill>
                  <a:srgbClr val="cccccc"/>
                </a:solidFill>
                <a:uFillTx/>
                <a:latin typeface="Times New Roman"/>
              </a:rPr>
              <a:t>experience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good literature!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His use of languag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Your interpret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 view of human natur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20" y="2832120"/>
            <a:ext cx="3809880" cy="241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10440" y="196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s of Reading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Literal:  What are the author’s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Inferential:  What is the meaning behind those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pplied:  How might this apply to me or to people in general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0040" y="1981080"/>
            <a:ext cx="152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y younger and more vulnerable years .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tzgerald’s word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father’s advi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son’s reserve to pass judgmen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Unsought confidenc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83080" y="1981080"/>
            <a:ext cx="29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erpretive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was close with his father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confided in the narrator because they felt safe from judgmen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Few of the confidences were totally revealing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feels just a bit superior about his sensitivity towards others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 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We are influenced by our parents more than we care to admi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feel a great need to reveal their inner secrets (no matter how lame) to those they trus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serving judgment allows us to see others more clearl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re are “haves” and “have nots” in a variety of ways in this worl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1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terpretive?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Carraways have enhanced their family histor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5160" y="89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2248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Families have been enhancing their bloodlines and pedigree (for the sake of status) throughout history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1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He was never able to recreate the glory of his college year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Even with all his money, Tom couldn’t find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om is a very selfish person who hasn’t grown up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38102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0:37:50Z</dcterms:created>
  <dc:creator>FCHS</dc:creator>
  <dc:description/>
  <dc:language>en-US</dc:language>
  <cp:lastModifiedBy>HS Teacher</cp:lastModifiedBy>
  <dcterms:modified xsi:type="dcterms:W3CDTF">2003-01-14T16:07:25Z</dcterms:modified>
  <cp:revision>19</cp:revision>
  <dc:subject/>
  <dc:title>The Great Gatsby: A three level reading introduction</dc:title>
</cp:coreProperties>
</file>