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9B5-35F2-485C-8F2A-82F00B22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8B6-6A38-4539-87BC-C4CAAC33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B18-5842-4D6D-B267-63F43A05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66E-188E-4AA2-A2B7-330C76D7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B83D-9048-4222-94B5-4B79DFDB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6205-FE36-4D27-B3B8-FC5C27AC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30EF-571F-4969-AD9D-9C52D93C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99AB-79D6-4AD2-87E4-5ACCC535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935B-EB35-425B-B60A-D282B924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1549-6FAB-4307-98E5-C7841F03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AA5A-692D-4059-A391-796AE6C0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6DF-4E6F-45C6-84FD-1C305970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477F-072E-4F1E-8BF1-79A11FD5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0082-7BCD-4EE7-8178-4A167A6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74D9-ECF3-4072-94CA-0B246219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3B98-F9EB-4D72-A72F-68645EC0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88D6-5D17-4E2F-8D26-B7A4A056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641-D888-4FFA-8B8E-6CD52590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A74-D624-44FA-B032-A33C299A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E71-B969-40FE-9913-C604BA3F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8C9-9434-4CC1-A942-E40D1EEB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447-A0DC-4FDC-AB83-7E8B76F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71D-6668-489C-982D-2B95D82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53F-0752-4060-9098-DABC09C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942D-F3C4-4ADD-AA14-1E6949AF3956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B3F-DA86-469A-BD2E-C2CDBB73DB51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Gatsb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ree level reading introduction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064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You can’t relive the pas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Concentrate on yesterday and you’ll lose toda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elfish pursuits seldom deliver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2746440"/>
            <a:ext cx="38102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made people feel they were special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was vivacious, full of life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here was an aura of excitement, yet mystery and even sadness about Dais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30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Go out of your way to pay special attention to someone and they’ll never forget you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ome people are exciting to be with even when little is actually happening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11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ortance of visualizing:</a:t>
            </a:r>
            <a:endParaRPr b="0" lang="en-US" sz="32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“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We walked through a high hallway into a brightly colored space . .“  </a:t>
            </a:r>
            <a:r>
              <a:rPr b="0" lang="en-US" sz="1200" spc="-1" strike="noStrike">
                <a:solidFill>
                  <a:srgbClr val="cccccc"/>
                </a:solidFill>
                <a:latin typeface="Times New Roman"/>
              </a:rPr>
              <a:t>p. 8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2519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summation: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ad and appreciate F. Scott Fitzgerald’s use of language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ink on different levels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Visualize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Don’t just read, but </a:t>
            </a:r>
            <a:r>
              <a:rPr b="1" lang="en-US" sz="2800" spc="-1" strike="noStrike" u="sng">
                <a:solidFill>
                  <a:srgbClr val="cccccc"/>
                </a:solidFill>
                <a:uFillTx/>
                <a:latin typeface="Times New Roman"/>
              </a:rPr>
              <a:t>experience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good literature!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His use of languag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Your interpret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 view of human natur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20" y="2832120"/>
            <a:ext cx="3809880" cy="241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10440" y="196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s of Reading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Literal:  What are the author’s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Inferential:  What is the meaning behind those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pplied:  How might this apply to me or to people in general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0040" y="1981080"/>
            <a:ext cx="152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y younger and more vulnerable years .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tzgerald’s word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father’s advi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son’s reserve to pass judgmen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Unsought confidenc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83080" y="1981080"/>
            <a:ext cx="29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erpretive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was close with his father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confided in the narrator because they felt safe from judgmen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Few of the confidences were totally revealing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feels just a bit superior about his sensitivity towards others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 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We are influenced by our parents more than we care to admi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feel a great need to reveal their inner secrets (no matter how lame) to those they trus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serving judgment allows us to see others more clearl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re are “haves” and “have nots” in a variety of ways in this worl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1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terpretive?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Carraways have enhanced their family histor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5160" y="89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2248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Families have been enhancing their bloodlines and pedigree (for the sake of status) throughout history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1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He was never able to recreate the glory of his college year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Even with all his money, Tom couldn’t find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om is a very selfish person who hasn’t grown up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38102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0:37:50Z</dcterms:created>
  <dc:creator>FCHS</dc:creator>
  <dc:description/>
  <dc:language>en-US</dc:language>
  <cp:lastModifiedBy>HS Teacher</cp:lastModifiedBy>
  <dcterms:modified xsi:type="dcterms:W3CDTF">2003-01-14T16:07:25Z</dcterms:modified>
  <cp:revision>19</cp:revision>
  <dc:subject/>
  <dc:title>The Great Gatsby: A three level reading introduction</dc:title>
</cp:coreProperties>
</file>