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766DB9-98A3-49A1-8325-857832857F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C22A8-BE5A-4279-8C7E-F75CAA6C8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Governors Association Center for Best Practices (NGA Center) and the Council of Chief State School Officers (CCSSO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9EDA9-7C1A-4D5A-82CA-34CE31FBB18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F32-48F2-4AC0-9AF4-0CED88F8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5BCB-F000-40EB-BEB8-578073F1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FBD-BE15-4A18-A5C4-7799D72D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9E08-E741-424D-A452-0145A599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60FF1-16DB-41DA-87C3-350FE6BB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5A466-F7A7-433C-8393-C9A0CFFE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DAE86-62D6-412A-8889-3E9EC211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4A0E4-6126-4A7A-BCBB-ABFF6A80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ADE73-C7DA-4639-9746-FF6879DA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88CFC-DAA3-4FF8-9F31-FD18182E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782DB-77A5-4282-BC3E-36FAD873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1C7A-A189-4B0F-870F-EBC3A82E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E65C1-6B15-45F3-8676-A7EA2B53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296A2-1105-45BF-9395-EEDB065F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69741-09D2-4148-9417-4CA40701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A3844-8A5A-4845-953B-A9F110C9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26A84-DC71-4E19-A359-00F7020C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EE274-B169-4DFA-AE45-3262B5AE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B69D02-A230-4586-8AB0-C4CCD3EE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3453C-7483-4044-B9C9-76A0E6D8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C0925-F88B-484A-A398-19537E46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44FA3-7C7F-4650-9BD6-58C0B412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376D-04B7-41D9-93DA-EECF1254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DAECD-5E7A-4454-A87A-B812610D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4D6CA-D472-4D7E-A631-F0BF8431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681F1-72F3-4998-A691-45CE8DDF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E2B15-E385-4375-B5E2-787AC836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D0263-50C3-44DA-8AED-F9109E1E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3B23B-A79E-409A-B70D-FB41A02C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42B5E7-5424-4071-A06F-F21CAA4D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9E8335-929D-425F-A5E0-5D8D0B86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47E345-68B0-4CB4-A5C7-3F64DEEE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87A066-1934-42EC-813D-D0640829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155-6D1B-4CE0-899A-6F4056AF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D79168-811A-4437-97E8-AE569D0F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F9F006-2716-4723-9FE3-DB3B0176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CA70F1-24E7-4A46-A161-83AADC3C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2E1301-A2D4-40AB-B463-B44C2568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B24582-39EA-4607-85AF-5729414A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475F12-BB8A-4BFA-8BA8-4C7B5966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E155F6-99E8-4BA8-AF90-0EB17D9D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6DC00E-9D3C-4F75-BC11-18BC3F80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E682AC-4FE2-45EA-AE57-CAA7C170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25EF-46A9-4CFD-ACE0-B851A612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BDED-A9FF-4CB9-A59E-F244118F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A3D-38F0-4838-A766-62B2AA36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7A0-613D-4417-846F-C13817F3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5A44-76BE-43DC-8ABA-CD947CE2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41FB6-6532-47C0-8EBA-C95D3A343844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B8341-425F-48B8-922E-F1F63261E6FB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EDF34-75E0-4F33-AE97-DD7FC715CF8C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1BCA7-02D4-431C-BAA5-071098655B39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6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B9501-A7AE-487F-846D-20450E1F4BCA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76F25-6DEB-49A8-973C-A4FAF0AC42F7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6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33710-58F1-426A-9401-599784C46284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BA9BA-FDCA-460D-8DE9-69CD34242A65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restandards.org/" TargetMode="External"/><Relationship Id="rId2" Type="http://schemas.openxmlformats.org/officeDocument/2006/relationships/hyperlink" Target="http://www.corestandards.org/" TargetMode="External"/><Relationship Id="rId3" Type="http://schemas.openxmlformats.org/officeDocument/2006/relationships/hyperlink" Target="http://www.corestandards.org/the-standards/english-language-arts-standards/reading-informational-text-6-12/grade-11-12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desas.org/Standard/CommonCore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7160" y="149400"/>
            <a:ext cx="8689680" cy="61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Transition to Common Core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 Literacy Standards in the Content Areas</a:t>
            </a:r>
            <a:br>
              <a:rPr sz="3600"/>
            </a:br>
            <a:br>
              <a:rPr sz="3600"/>
            </a:br>
            <a:r>
              <a:rPr b="1" i="1" lang="en-US" sz="3100" spc="-1" strike="noStrike">
                <a:solidFill>
                  <a:srgbClr val="ffffff"/>
                </a:solidFill>
                <a:latin typeface="Palatino Linotype"/>
              </a:rPr>
              <a:t>FCASD Secondary Program Overview</a:t>
            </a:r>
            <a:br>
              <a:rPr sz="3100"/>
            </a:br>
            <a:r>
              <a:rPr b="1" i="1" lang="en-US" sz="2400" spc="-1" strike="noStrike">
                <a:solidFill>
                  <a:srgbClr val="ffffff"/>
                </a:solidFill>
                <a:latin typeface="Palatino Linotype"/>
              </a:rPr>
              <a:t>prepared with support from the AIU - Christopher Caton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Palatino Linotype"/>
              </a:rPr>
              <a:t> June 2012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896760" y="3902040"/>
            <a:ext cx="7712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Literacy Standards in: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History/Social Studies,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Science and  Technical Subjec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Writing Standards in: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History/Social Studies, Science and Technical Subjec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FCASD is addressing this as  “literacy in all content areas”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3816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16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Rectangle 2"/>
          <p:cNvGrpSpPr/>
          <p:nvPr/>
        </p:nvGrpSpPr>
        <p:grpSpPr>
          <a:xfrm>
            <a:off x="1712880" y="3986280"/>
            <a:ext cx="3645000" cy="1079280"/>
            <a:chOff x="1712880" y="3986280"/>
            <a:chExt cx="3645000" cy="1079280"/>
          </a:xfrm>
        </p:grpSpPr>
        <p:pic>
          <p:nvPicPr>
            <p:cNvPr id="198" name="Rectangle 2" descr=""/>
            <p:cNvPicPr/>
            <p:nvPr/>
          </p:nvPicPr>
          <p:blipFill>
            <a:blip r:embed="rId3"/>
            <a:stretch/>
          </p:blipFill>
          <p:spPr>
            <a:xfrm>
              <a:off x="1712880" y="3986280"/>
              <a:ext cx="3645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811160" y="4052880"/>
              <a:ext cx="3454560" cy="8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0" y="81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Navigation to Common Cor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(Non-English/Math Course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468360" y="2355840"/>
            <a:ext cx="825336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Download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mmon Core State Standards Art &amp; Literature in History/Social Studies, Science, &amp; Technical Subjects</a:t>
            </a:r>
            <a:r>
              <a:rPr b="0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1"/>
              </a:rPr>
              <a:t>http://www.corestandards.org</a:t>
            </a:r>
            <a:r>
              <a:rPr b="0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2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 -- Select the Standards Tab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And/Or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Navigate Website:</a:t>
            </a:r>
            <a:r>
              <a:rPr b="1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3"/>
              </a:rPr>
              <a:t>http://www.corestandards.org/the-standards/english-language-arts-standards/reading-informational-text-6-12/grade-11-12/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5760" y="1708200"/>
            <a:ext cx="823248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56320" indent="-23976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Adjusted to meet State expectations/needs: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Foundational Skills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Reading Informational Text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Reading Literature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Speaking and Listening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5600" y="241200"/>
            <a:ext cx="8632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PA Common Core Standards Focu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rc 1"/>
          <p:cNvSpPr/>
          <p:nvPr/>
        </p:nvSpPr>
        <p:spPr>
          <a:xfrm>
            <a:off x="344520" y="716040"/>
            <a:ext cx="8400960" cy="25146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Arc 2"/>
          <p:cNvSpPr/>
          <p:nvPr/>
        </p:nvSpPr>
        <p:spPr>
          <a:xfrm>
            <a:off x="363600" y="1579680"/>
            <a:ext cx="8400960" cy="761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44520" y="2658960"/>
            <a:ext cx="156204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039760" y="2658960"/>
            <a:ext cx="161928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792600" y="2658960"/>
            <a:ext cx="154296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5468760" y="2658960"/>
            <a:ext cx="161928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78840" y="2658960"/>
            <a:ext cx="146664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1" name="Straight Connector 8"/>
          <p:cNvSpPr/>
          <p:nvPr/>
        </p:nvSpPr>
        <p:spPr>
          <a:xfrm flipH="1">
            <a:off x="1125360" y="1668600"/>
            <a:ext cx="1447920" cy="99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2" name="Straight Connector 9"/>
          <p:cNvSpPr/>
          <p:nvPr/>
        </p:nvSpPr>
        <p:spPr>
          <a:xfrm flipH="1">
            <a:off x="2849040" y="1619280"/>
            <a:ext cx="63828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3" name="Straight Connector 10"/>
          <p:cNvSpPr/>
          <p:nvPr/>
        </p:nvSpPr>
        <p:spPr>
          <a:xfrm flipH="1">
            <a:off x="4564080" y="1619280"/>
            <a:ext cx="3816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4" name="Straight Connector 11"/>
          <p:cNvSpPr/>
          <p:nvPr/>
        </p:nvSpPr>
        <p:spPr>
          <a:xfrm>
            <a:off x="5850000" y="1592280"/>
            <a:ext cx="42840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5" name="Straight Connector 12"/>
          <p:cNvSpPr/>
          <p:nvPr/>
        </p:nvSpPr>
        <p:spPr>
          <a:xfrm>
            <a:off x="6688080" y="1619280"/>
            <a:ext cx="132408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361800" y="4390920"/>
            <a:ext cx="8307360" cy="1621080"/>
          </a:xfrm>
          <a:prstGeom prst="rect">
            <a:avLst/>
          </a:prstGeom>
          <a:noFill/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7" name="TextBox 39"/>
          <p:cNvSpPr/>
          <p:nvPr/>
        </p:nvSpPr>
        <p:spPr>
          <a:xfrm>
            <a:off x="1211400" y="134460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llege and Career Readiness Anchor Standards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8" name="Right Arrow 15"/>
          <p:cNvSpPr/>
          <p:nvPr/>
        </p:nvSpPr>
        <p:spPr>
          <a:xfrm>
            <a:off x="487440" y="44686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Right Arrow 16"/>
          <p:cNvSpPr/>
          <p:nvPr/>
        </p:nvSpPr>
        <p:spPr>
          <a:xfrm>
            <a:off x="487440" y="479412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Right Arrow 17"/>
          <p:cNvSpPr/>
          <p:nvPr/>
        </p:nvSpPr>
        <p:spPr>
          <a:xfrm>
            <a:off x="517680" y="5419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Right Arrow 18"/>
          <p:cNvSpPr/>
          <p:nvPr/>
        </p:nvSpPr>
        <p:spPr>
          <a:xfrm>
            <a:off x="506520" y="509256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2" name="TextBox 44"/>
          <p:cNvSpPr/>
          <p:nvPr/>
        </p:nvSpPr>
        <p:spPr>
          <a:xfrm>
            <a:off x="792000" y="4390920"/>
            <a:ext cx="78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A:  Research behind the standards and a glossary of terms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3" name="Rectangle 45"/>
          <p:cNvSpPr/>
          <p:nvPr/>
        </p:nvSpPr>
        <p:spPr>
          <a:xfrm>
            <a:off x="820800" y="4603680"/>
            <a:ext cx="78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Appendix B: Text exemplars illustrating complexity, quality, and range of reading appropriateness 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4" name="Rectangle 46"/>
          <p:cNvSpPr/>
          <p:nvPr/>
        </p:nvSpPr>
        <p:spPr>
          <a:xfrm>
            <a:off x="811080" y="5014800"/>
            <a:ext cx="785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Appendix C: Annotated samples of student writing at various grades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Rectangle 47"/>
          <p:cNvSpPr/>
          <p:nvPr/>
        </p:nvSpPr>
        <p:spPr>
          <a:xfrm>
            <a:off x="822240" y="5270400"/>
            <a:ext cx="784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Appendix D: Literacy standards for History and Social Studies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6" name="TextBox 49"/>
          <p:cNvSpPr/>
          <p:nvPr/>
        </p:nvSpPr>
        <p:spPr>
          <a:xfrm>
            <a:off x="2046240" y="2665440"/>
            <a:ext cx="156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ading Informational Text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Rectangle 50"/>
          <p:cNvSpPr/>
          <p:nvPr/>
        </p:nvSpPr>
        <p:spPr>
          <a:xfrm>
            <a:off x="3962520" y="275112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Reading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Literature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8" name="Rectangle 51"/>
          <p:cNvSpPr/>
          <p:nvPr/>
        </p:nvSpPr>
        <p:spPr>
          <a:xfrm>
            <a:off x="315720" y="2662200"/>
            <a:ext cx="168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Foundational Skills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Rectangle 52"/>
          <p:cNvSpPr/>
          <p:nvPr/>
        </p:nvSpPr>
        <p:spPr>
          <a:xfrm>
            <a:off x="5838480" y="265752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Writing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Rectangle 53"/>
          <p:cNvSpPr/>
          <p:nvPr/>
        </p:nvSpPr>
        <p:spPr>
          <a:xfrm>
            <a:off x="7321680" y="2620800"/>
            <a:ext cx="142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Speaking &amp; Listening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1" name="TextBox 55"/>
          <p:cNvSpPr/>
          <p:nvPr/>
        </p:nvSpPr>
        <p:spPr>
          <a:xfrm>
            <a:off x="343080" y="2828880"/>
            <a:ext cx="15634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necessary  component of an effective,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prehensive reading program designed to develop proficient readers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2" name="TextBox 56"/>
          <p:cNvSpPr/>
          <p:nvPr/>
        </p:nvSpPr>
        <p:spPr>
          <a:xfrm>
            <a:off x="2068560" y="3352680"/>
            <a:ext cx="1563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ables students to read, understand, and respond to informational texts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3" name="TextBox 57"/>
          <p:cNvSpPr/>
          <p:nvPr/>
        </p:nvSpPr>
        <p:spPr>
          <a:xfrm>
            <a:off x="3792600" y="3282840"/>
            <a:ext cx="1542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ables students to read, understand, and respond to literatur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TextBox 58"/>
          <p:cNvSpPr/>
          <p:nvPr/>
        </p:nvSpPr>
        <p:spPr>
          <a:xfrm>
            <a:off x="5468760" y="2844720"/>
            <a:ext cx="16192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velops the skills of informational, argumentative, and narrative writing as well as the ability to engage in evidence based analysis of text and research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TextBox 63"/>
          <p:cNvSpPr/>
          <p:nvPr/>
        </p:nvSpPr>
        <p:spPr>
          <a:xfrm>
            <a:off x="7321680" y="3006720"/>
            <a:ext cx="14238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ocuses students on communication skills that enable critical listening and effective presentation of ideas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Right Arrow 33"/>
          <p:cNvSpPr/>
          <p:nvPr/>
        </p:nvSpPr>
        <p:spPr>
          <a:xfrm>
            <a:off x="515880" y="572436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7" name="TextBox 65"/>
          <p:cNvSpPr/>
          <p:nvPr/>
        </p:nvSpPr>
        <p:spPr>
          <a:xfrm>
            <a:off x="865080" y="5568840"/>
            <a:ext cx="78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E: Literacy standards for Science and Technical Subjects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2268360" y="731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PA Common Core Standards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English Language Arts &amp; Literacy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1062000" y="584280"/>
            <a:ext cx="710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Navigation to PA Common Cor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(English &amp; Math Courses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450720" y="2690640"/>
            <a:ext cx="8271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Download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1"/>
              </a:rPr>
              <a:t>http://pdesas.org/Standard/CommonCore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86660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Similar to existing standard coding system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Language collaboration between existing standard and Common Core language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Standard Coding/Numbering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6"/>
          <p:cNvGrpSpPr/>
          <p:nvPr/>
        </p:nvGrpSpPr>
        <p:grpSpPr>
          <a:xfrm>
            <a:off x="204840" y="1554120"/>
            <a:ext cx="6653160" cy="4097160"/>
            <a:chOff x="204840" y="1554120"/>
            <a:chExt cx="6653160" cy="4097160"/>
          </a:xfrm>
        </p:grpSpPr>
        <p:sp>
          <p:nvSpPr>
            <p:cNvPr id="244" name="Text Box 7"/>
            <p:cNvSpPr/>
            <p:nvPr/>
          </p:nvSpPr>
          <p:spPr>
            <a:xfrm>
              <a:off x="2017080" y="1554120"/>
              <a:ext cx="475020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CC.  1.   5.   6.   B</a:t>
              </a:r>
              <a:endParaRPr b="0" lang="en-US" sz="40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5" name="Line 8"/>
            <p:cNvSpPr/>
            <p:nvPr/>
          </p:nvSpPr>
          <p:spPr>
            <a:xfrm flipH="1">
              <a:off x="2864520" y="2290680"/>
              <a:ext cx="763560" cy="148716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6" name="Line 9"/>
            <p:cNvSpPr/>
            <p:nvPr/>
          </p:nvSpPr>
          <p:spPr>
            <a:xfrm>
              <a:off x="4484880" y="2290680"/>
              <a:ext cx="0" cy="272916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7" name="Line 10"/>
            <p:cNvSpPr/>
            <p:nvPr/>
          </p:nvSpPr>
          <p:spPr>
            <a:xfrm>
              <a:off x="5388120" y="2290680"/>
              <a:ext cx="709920" cy="18054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1445760" y="2290680"/>
              <a:ext cx="1117440" cy="10782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9" name="Text Box 12"/>
            <p:cNvSpPr/>
            <p:nvPr/>
          </p:nvSpPr>
          <p:spPr>
            <a:xfrm>
              <a:off x="204840" y="3372480"/>
              <a:ext cx="195984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 Common Core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50" name="Text Box 13"/>
            <p:cNvSpPr/>
            <p:nvPr/>
          </p:nvSpPr>
          <p:spPr>
            <a:xfrm>
              <a:off x="5702760" y="4096080"/>
              <a:ext cx="11552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rade Level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2017080" y="3778920"/>
              <a:ext cx="140724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nglish Language Arts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52" name="Text Box 15"/>
            <p:cNvSpPr/>
            <p:nvPr/>
          </p:nvSpPr>
          <p:spPr>
            <a:xfrm>
              <a:off x="3749760" y="4783320"/>
              <a:ext cx="1372680" cy="8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peaking &amp; Listening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53" name="Line 10"/>
          <p:cNvSpPr/>
          <p:nvPr/>
        </p:nvSpPr>
        <p:spPr>
          <a:xfrm>
            <a:off x="6418440" y="2290680"/>
            <a:ext cx="784080" cy="1257480"/>
          </a:xfrm>
          <a:prstGeom prst="line">
            <a:avLst/>
          </a:prstGeom>
          <a:ln w="442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7202520" y="3672000"/>
            <a:ext cx="17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aking &amp; Listen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 2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TextBox 13"/>
          <p:cNvSpPr/>
          <p:nvPr/>
        </p:nvSpPr>
        <p:spPr>
          <a:xfrm>
            <a:off x="-87480" y="353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Reading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PA Common Core Coding/Numbering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509400" y="1643040"/>
            <a:ext cx="8267400" cy="464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Increase depth of knowledge with metacognition development throughout all grade levels bands.</a:t>
            </a: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Metacognitive development through skill acquisition:</a:t>
            </a: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Meta-memory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Meta-comprehension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Self-regulation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Spiral of learning that revisits metacognitive development (learning strategies).</a:t>
            </a: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Overall Chang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328680" y="304920"/>
            <a:ext cx="727704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Recognizing Rigor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Depth of Knowledge” tool; DOK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Rectangle 3"/>
          <p:cNvSpPr/>
          <p:nvPr/>
        </p:nvSpPr>
        <p:spPr>
          <a:xfrm rot="19200">
            <a:off x="1483920" y="4535280"/>
            <a:ext cx="64292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28680" y="1698480"/>
            <a:ext cx="815328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A tool and scale of cognitive demand levels (thinking)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7fd5"/>
                </a:solidFill>
                <a:latin typeface="Palatino Linotype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to align standards with assessmen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Based on the research of </a:t>
            </a:r>
            <a:r>
              <a:rPr b="0" lang="en-US" sz="2000" spc="-1" strike="noStrike">
                <a:solidFill>
                  <a:srgbClr val="297fd5"/>
                </a:solidFill>
                <a:latin typeface="Palatino Linotype"/>
                <a:ea typeface="ＭＳ Ｐゴシック"/>
              </a:rPr>
              <a:t>Norman Webb,  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University of Wisconsin Center for Education Research and the National Institute for Science Education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Defines the </a:t>
            </a:r>
            <a:r>
              <a:rPr b="0" lang="ja-JP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Arial"/>
              </a:rPr>
              <a:t>ceiling</a:t>
            </a:r>
            <a:r>
              <a:rPr b="0" lang="ja-JP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Arial"/>
              </a:rPr>
              <a:t> or highest DOK level for each Core Content standard for the state assessmen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Arial"/>
              </a:rPr>
              <a:t>Guides item development for state assessmen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61" name="Picture 6" descr="MCj01875870000[1]"/>
          <p:cNvPicPr/>
          <p:nvPr/>
        </p:nvPicPr>
        <p:blipFill>
          <a:blip r:embed="rId1"/>
          <a:stretch/>
        </p:blipFill>
        <p:spPr>
          <a:xfrm>
            <a:off x="7702560" y="426960"/>
            <a:ext cx="1069920" cy="12589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2762280" y="857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itle 1"/>
          <p:cNvSpPr/>
          <p:nvPr/>
        </p:nvSpPr>
        <p:spPr>
          <a:xfrm>
            <a:off x="457200" y="32544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Arial"/>
              </a:rPr>
              <a:t>Depth of Knowledge Levels (DOK)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28680" y="1044720"/>
          <a:ext cx="8358120" cy="5584680"/>
        </p:xfrm>
        <a:graphic>
          <a:graphicData uri="http://schemas.openxmlformats.org/drawingml/2006/table">
            <a:tbl>
              <a:tblPr/>
              <a:tblGrid>
                <a:gridCol w="1679400"/>
                <a:gridCol w="6678720"/>
              </a:tblGrid>
              <a:tr h="411840">
                <a:tc gridSpan="2"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DEFINI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all &amp; Rep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recalls facts, information, procedures, or definition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kills &amp; Conce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information, conceptual knowledge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d procedur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rategic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reasoning and develops a plan or sequence of steps; process has some complexity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844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4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ended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conducts an investigation, needs time to think and process multiple conditions of problem or task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A7D7F-1E13-4C74-9217-7031438C9DB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5800" y="150660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te led - coordinated by NGA (National Governor’s Association) Center and CCSSO (Council of Chief State School Officer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gorous content and application of knowledge through high-order skill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ild upon strengths and lessons of current state standard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rnationally benchmarked so that all students are prepared to succeed in our global economy and society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31572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Palatino Linotype"/>
              </a:rPr>
              <a:t>What are the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Palatino Linotype"/>
              </a:rPr>
              <a:t>Common Core State Standards/CCSS ?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457200" y="598320"/>
            <a:ext cx="82296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Depth of Knowledg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69840" y="1905120"/>
            <a:ext cx="784872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Depth of Knowledge is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NOT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termined by the verb, but th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xt in which the verb is use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d th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pth of thinking requir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279360" y="703440"/>
            <a:ext cx="81788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Exploring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he Cognitive Rigor Matrix” 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(K. Hes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69" name="TextBox 3" descr=""/>
          <p:cNvPicPr/>
          <p:nvPr/>
        </p:nvPicPr>
        <p:blipFill>
          <a:blip r:embed="rId1"/>
          <a:stretch/>
        </p:blipFill>
        <p:spPr>
          <a:xfrm>
            <a:off x="738360" y="3067200"/>
            <a:ext cx="783252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Equalizer DI PlnngTool copy.pdf"/>
          <p:cNvPicPr/>
          <p:nvPr/>
        </p:nvPicPr>
        <p:blipFill>
          <a:blip r:embed="rId1"/>
          <a:stretch/>
        </p:blipFill>
        <p:spPr>
          <a:xfrm>
            <a:off x="1981080" y="914400"/>
            <a:ext cx="5220000" cy="55753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"/>
          <p:cNvSpPr/>
          <p:nvPr/>
        </p:nvSpPr>
        <p:spPr>
          <a:xfrm>
            <a:off x="0" y="88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Recognizing Rigor; Equalizer Planning Tool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330120" y="1957320"/>
            <a:ext cx="843300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nsider appropriateness in task rigor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The zone of proximal development has been defined as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the distance between the actual developmental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level as determined by independent problem solving </a:t>
            </a:r>
            <a:r>
              <a:rPr b="1" i="1" lang="en-US" sz="2400" spc="-1" strike="noStrike">
                <a:solidFill>
                  <a:srgbClr val="ffffff"/>
                </a:solidFill>
                <a:latin typeface="Palatino Linotype"/>
              </a:rPr>
              <a:t>and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he level of potential development as determined through problem solving under adult guidance, or in collaboration with more capable peers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” 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(Vygotsky, 1978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In other words, it is the range of abilities that a person has to perform tasks with assistance, but cannot yet perform independently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0" y="639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Rigor and ZPD -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The Zone of Proximal Development (ZPD)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5130720" y="15876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Producing Cognitive Sweat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76" name="Picture 2" descr="http://www.scientificamerican.com/media/inline/does-brain-size-matter_1.jpg"/>
          <p:cNvPicPr/>
          <p:nvPr/>
        </p:nvPicPr>
        <p:blipFill>
          <a:blip r:embed="rId1"/>
          <a:stretch/>
        </p:blipFill>
        <p:spPr>
          <a:xfrm>
            <a:off x="1387440" y="1122480"/>
            <a:ext cx="5438880" cy="3473280"/>
          </a:xfrm>
          <a:prstGeom prst="rect">
            <a:avLst/>
          </a:prstGeom>
          <a:ln w="0">
            <a:noFill/>
          </a:ln>
        </p:spPr>
      </p:pic>
      <p:sp>
        <p:nvSpPr>
          <p:cNvPr id="277" name="Teardrop 3"/>
          <p:cNvSpPr/>
          <p:nvPr/>
        </p:nvSpPr>
        <p:spPr>
          <a:xfrm rot="4632000">
            <a:off x="2346480" y="2268000"/>
            <a:ext cx="457200" cy="457200"/>
          </a:xfrm>
          <a:prstGeom prst="pie">
            <a:avLst/>
          </a:prstGeom>
          <a:solidFill>
            <a:srgbClr val="0070c0">
              <a:alpha val="61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8" name="Teardrop 4"/>
          <p:cNvSpPr/>
          <p:nvPr/>
        </p:nvSpPr>
        <p:spPr>
          <a:xfrm rot="5400000">
            <a:off x="2301840" y="1515960"/>
            <a:ext cx="457200" cy="457200"/>
          </a:xfrm>
          <a:prstGeom prst="pie">
            <a:avLst/>
          </a:prstGeom>
          <a:solidFill>
            <a:srgbClr val="0070c0">
              <a:alpha val="82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Teardrop 5"/>
          <p:cNvSpPr/>
          <p:nvPr/>
        </p:nvSpPr>
        <p:spPr>
          <a:xfrm rot="10390200">
            <a:off x="6292440" y="1960560"/>
            <a:ext cx="457200" cy="457200"/>
          </a:xfrm>
          <a:prstGeom prst="pie">
            <a:avLst/>
          </a:prstGeom>
          <a:solidFill>
            <a:srgbClr val="0070c0">
              <a:alpha val="53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0" name="Teardrop 6"/>
          <p:cNvSpPr/>
          <p:nvPr/>
        </p:nvSpPr>
        <p:spPr>
          <a:xfrm rot="10315800">
            <a:off x="6141960" y="1287360"/>
            <a:ext cx="457200" cy="457200"/>
          </a:xfrm>
          <a:prstGeom prst="pie">
            <a:avLst/>
          </a:prstGeom>
          <a:solidFill>
            <a:srgbClr val="0070c0">
              <a:alpha val="74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Teardrop 7"/>
          <p:cNvSpPr/>
          <p:nvPr/>
        </p:nvSpPr>
        <p:spPr>
          <a:xfrm rot="11651400">
            <a:off x="6875640" y="2160360"/>
            <a:ext cx="457200" cy="457200"/>
          </a:xfrm>
          <a:prstGeom prst="pie">
            <a:avLst/>
          </a:prstGeom>
          <a:solidFill>
            <a:srgbClr val="0070c0">
              <a:alpha val="56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Teardrop 8"/>
          <p:cNvSpPr/>
          <p:nvPr/>
        </p:nvSpPr>
        <p:spPr>
          <a:xfrm rot="19416600">
            <a:off x="3836520" y="367200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3" name="Teardrop 9"/>
          <p:cNvSpPr/>
          <p:nvPr/>
        </p:nvSpPr>
        <p:spPr>
          <a:xfrm rot="3359400">
            <a:off x="1720440" y="231264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4" name="Teardrop 10"/>
          <p:cNvSpPr/>
          <p:nvPr/>
        </p:nvSpPr>
        <p:spPr>
          <a:xfrm rot="18984000">
            <a:off x="5073120" y="2831760"/>
            <a:ext cx="457200" cy="457200"/>
          </a:xfrm>
          <a:prstGeom prst="pie">
            <a:avLst/>
          </a:prstGeom>
          <a:solidFill>
            <a:srgbClr val="0070c0">
              <a:alpha val="85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5" name="Teardrop 11"/>
          <p:cNvSpPr/>
          <p:nvPr/>
        </p:nvSpPr>
        <p:spPr>
          <a:xfrm rot="19065000">
            <a:off x="6362280" y="4603680"/>
            <a:ext cx="457200" cy="457200"/>
          </a:xfrm>
          <a:prstGeom prst="pie">
            <a:avLst/>
          </a:prstGeom>
          <a:solidFill>
            <a:srgbClr val="0070c0">
              <a:alpha val="72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1387440" y="4554360"/>
            <a:ext cx="567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Meeting the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Rigor of the Common Core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52360" y="1155240"/>
            <a:ext cx="8748720" cy="538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Continuation of NCLB encouraged by refined educational ideology and direction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Intent: raise educational rigor and achieve state/national standards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48 States adopted Common Core or version thereof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PA has altered Common Core to a minimal extent to  meet existing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(a) assessment tools expectation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(b) common language use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Transition timeline: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phase in beginning in 2012 – 2013; guided by AIU Consultant &amp;                     FCASD Think Tank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expectation for integration of practices in the 2013 – 2014 school year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Backgroun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4503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Driving Forces Leading to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CC Literacy Standards in the Content Area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223560" y="1498680"/>
            <a:ext cx="87678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Based on a range of national and internationally benchmarked assessments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1. Intensity of Rigor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proficiency in most state level standardized assessments fall below the proficiency on the NAEP  (nation’s  report card)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performance declines in upper grades -  students lose momentum in high school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student readiness for college/work at an all time low.   Inadequate: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Verbal reasoning ability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Understanding of words used in tex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Background knowledge about domains represented in tex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Familiarity with semantic and syntactic structures that assist with the understanding between relationships and IDEA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243000" y="1733400"/>
            <a:ext cx="872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Palatino Linotype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Communications on a national level:  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discrepancy in proficiency measures across states – uneven student expectations - lack of focused guideposts for parents, educators, student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457200" indent="-457200">
              <a:buClr>
                <a:srgbClr val="ffffff"/>
              </a:buClr>
              <a:buFont typeface="Palatino Linotype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International measures &amp; comparisons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: country falling behind; U.S. curriculum tends to be wide as  opposed to deep - compared with other successful countrie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Driving Forces -- Continue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Profile of a Common Core Graduat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98080" y="1003320"/>
            <a:ext cx="8458200" cy="570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Responsive to varying audience, points of view, tasks, purpose, discipline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Independent learner and thinker --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focus on metacognition: self assessment, goal setting/plan-making….)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; able to comprehend and critique works of quality and substance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Values evidence and supports related to argumen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Development of skills and attributes in the areas of: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ommunication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ollaboration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reativity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ritical thinking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echnology and digital media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Understanding of other Perspectives/Cultures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537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CC Overarching Theme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04920" y="1228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mmon Core Standards support and encourage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A high degree of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rigor, metacognition, 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and student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collaboration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Emphasis on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non-fiction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occurs throughout the grades as well as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increasing the amount of student reading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Technology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embedded  throughout learning experiences and emphasis on the use of digital resources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648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537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CC Overarching Themes -- Continue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920" y="1228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Common Core Standards support and encourage: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Speaking and Listening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standards are much more specific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Writing 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on a daily basis for a variety of purposes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academic writing 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– argument/explanation/research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Relevant levels of Text complexity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 - prominent addition (with exemplars)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Specificity </a:t>
            </a: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and </a:t>
            </a:r>
            <a:r>
              <a:rPr b="1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scaffolding</a:t>
            </a: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 of standards provides vertical articulation to support </a:t>
            </a:r>
            <a:r>
              <a:rPr b="1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ext complexity</a:t>
            </a: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Text connections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 throughout the grade levels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648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26560" y="2179440"/>
            <a:ext cx="831708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Read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569160" indent="-22716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Foundational skill acquired K-5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56916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Writ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Speaking &amp; Listen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Language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ntent-area subjects incorporation and cross-curricular implementation of reading &amp; writing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ELA/Literacy Common Core Focu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23:49:02Z</dcterms:created>
  <dc:creator>Teacher FCASD</dc:creator>
  <dc:description/>
  <dc:language>en-US</dc:language>
  <cp:lastModifiedBy>Teacher FCASD</cp:lastModifiedBy>
  <cp:lastPrinted>2012-06-04T17:59:55Z</cp:lastPrinted>
  <dcterms:modified xsi:type="dcterms:W3CDTF">2012-06-07T02:38:47Z</dcterms:modified>
  <cp:revision>92</cp:revision>
  <dc:subject/>
  <dc:title>PA Common Core Standards</dc:title>
</cp:coreProperties>
</file>