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59C90-8B37-47F1-B77E-382270216A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C17AB-269E-4731-9158-2BE6626DF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Governors Association Center for Best Practices (NGA Center) and the Council of Chief State School Officers (CCSSO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73D208-FB26-4C03-8D11-9B973C4A4D5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4AF-46E3-483E-AFC1-C9CF72A7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508-5714-4889-A5DC-6B01574D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B0E1-7E1A-48A2-9AC1-29B8712C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F0A-4328-406A-A417-FD02B3D4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02AD8-779D-4BFE-A46A-9E72230A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A169F-B956-4A9B-BC48-1BD226E3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7E7B2-2E9E-471F-A17B-CF2C04B7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5D01D-A7E8-433C-9B66-7A7463B6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EBB34-A4DA-48AC-A958-72BA9E09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75964-9C3A-43DC-8C60-E7776237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BAFC0-6FF1-40B5-BD93-C18F1439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61D4-4310-44AA-953C-C9C357ED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12AAD-DE09-4732-B7D0-E04D898F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8E5BD-457B-4E49-BB90-9616D723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FF669-3C88-492C-A7D1-B39264C1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4E81B-9144-4266-AD5A-C999CDA4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A451B-E596-4B95-90DE-8D99EEA4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01844-C119-47D6-8750-B29D6D04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E25FF-1005-4981-AADE-47DD8BE4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8DBB1-DE69-4CF7-8FA6-EF0AA959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ED84E-B059-4665-882C-FF395A29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B3C7D-6DF4-40EF-8F24-461A15D6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5D6-D1C8-44C4-82FA-4BC99ED9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68DA1-06AA-47A3-9AE8-F3D1341B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EF203-7571-4E8A-8C05-B942AB61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9C10E-3EF8-49BF-903C-6466C6D2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2C449-410B-4A91-BF41-89E78DCC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3D498-C239-4B87-83FE-F3961DE9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AA1A9-838B-4C4D-9B1C-D81133D4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B21EF-58C3-4B58-A213-DFD25ACD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403D79-7B5D-4EA4-B7F8-281CECE2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191656-955D-47C1-9A95-F1C5BBCA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D16AB5-4DD5-43BE-A793-A996A0BA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ADD8-3C86-4F54-B811-37A245E9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D708F0-8A24-43DD-925F-CE9246A4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5923FD-F26E-49FB-97AA-46835AC7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27F34-1FE8-4487-A530-32DEB757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CD29F2-0C5E-4680-9DA0-BA3FA0F7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6B7A06-94DA-4141-BA47-9A5F2D0B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67B0E-F17D-47D0-A67C-B773EF79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318170-7AC0-4092-957B-2CAFC0C4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DA1D3C-06B5-4C12-BECC-6EBA0FDB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6C098C-EB94-40E6-B3B7-4112B1D6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004-0931-485E-9A49-E83B2382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9CBB-E178-41D0-83A6-3AE26401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E3F7-B8BD-4C00-B820-2E25AEE2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4E4-21DE-463D-ABDA-A7A99199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101-AF23-4199-9AEB-ABA7E59E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9A84E-B693-40D8-8E20-1AF1FCD7A92D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978B3-5F31-4C79-BD7A-B2B416DE8C31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A3FBF-E57E-467A-9282-577CA023E770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A00C0-FFCF-47C2-B8A8-2F503200BBB0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6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90E3E-0EB8-4CB5-92E7-98F2A421A06D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F5F04-0188-4B1E-8559-DED06956DEE2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6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6F0E0-EC14-4461-BEFD-8814806641D0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86E30-D481-40C2-9B5D-97FBE51C17CD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restandards.org/" TargetMode="External"/><Relationship Id="rId2" Type="http://schemas.openxmlformats.org/officeDocument/2006/relationships/hyperlink" Target="http://www.corestandards.org/" TargetMode="External"/><Relationship Id="rId3" Type="http://schemas.openxmlformats.org/officeDocument/2006/relationships/hyperlink" Target="http://www.corestandards.org/the-standards/english-language-arts-standards/reading-informational-text-6-12/grade-11-12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desas.org/Standard/CommonCore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7160" y="149400"/>
            <a:ext cx="8689680" cy="61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Transition to Common Core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 Literacy Standards in the Content Areas</a:t>
            </a:r>
            <a:br>
              <a:rPr sz="3600"/>
            </a:br>
            <a:br>
              <a:rPr sz="3600"/>
            </a:br>
            <a:r>
              <a:rPr b="1" i="1" lang="en-US" sz="3100" spc="-1" strike="noStrike">
                <a:solidFill>
                  <a:srgbClr val="ffffff"/>
                </a:solidFill>
                <a:latin typeface="Palatino Linotype"/>
              </a:rPr>
              <a:t>FCASD Secondary Program Overview</a:t>
            </a:r>
            <a:br>
              <a:rPr sz="3100"/>
            </a:br>
            <a:r>
              <a:rPr b="1" i="1" lang="en-US" sz="2400" spc="-1" strike="noStrike">
                <a:solidFill>
                  <a:srgbClr val="ffffff"/>
                </a:solidFill>
                <a:latin typeface="Palatino Linotype"/>
              </a:rPr>
              <a:t>prepared with support from the AIU - Christopher Caton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Palatino Linotype"/>
              </a:rPr>
              <a:t> June 2012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896760" y="3902040"/>
            <a:ext cx="7712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Literacy Standards in: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History/Social Studies,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Science and  Technical Subjec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Writing Standards in: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History/Social Studies, Science and Technical Subjec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FCASD is addressing this as  “literacy in all content areas”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3816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16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Rectangle 2"/>
          <p:cNvGrpSpPr/>
          <p:nvPr/>
        </p:nvGrpSpPr>
        <p:grpSpPr>
          <a:xfrm>
            <a:off x="1712880" y="3986280"/>
            <a:ext cx="3645000" cy="1079280"/>
            <a:chOff x="1712880" y="3986280"/>
            <a:chExt cx="3645000" cy="1079280"/>
          </a:xfrm>
        </p:grpSpPr>
        <p:pic>
          <p:nvPicPr>
            <p:cNvPr id="198" name="Rectangle 2" descr=""/>
            <p:cNvPicPr/>
            <p:nvPr/>
          </p:nvPicPr>
          <p:blipFill>
            <a:blip r:embed="rId3"/>
            <a:stretch/>
          </p:blipFill>
          <p:spPr>
            <a:xfrm>
              <a:off x="1712880" y="3986280"/>
              <a:ext cx="3645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811160" y="4052880"/>
              <a:ext cx="3454560" cy="8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0" y="81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Navigation to Common Cor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(Non-English/Math Course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468360" y="2355840"/>
            <a:ext cx="825336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Download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mmon Core State Standards Art &amp; Literature in History/Social Studies, Science, &amp; Technical Subjects</a:t>
            </a:r>
            <a:r>
              <a:rPr b="0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1"/>
              </a:rPr>
              <a:t>http://www.corestandards.org</a:t>
            </a:r>
            <a:r>
              <a:rPr b="0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2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 -- Select the Standards Tab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And/Or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Navigate Website:</a:t>
            </a:r>
            <a:r>
              <a:rPr b="1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3"/>
              </a:rPr>
              <a:t>http://www.corestandards.org/the-standards/english-language-arts-standards/reading-informational-text-6-12/grade-11-12/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5760" y="1708200"/>
            <a:ext cx="823248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56320" indent="-23976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Adjusted to meet State expectations/needs: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Foundational Skills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Reading Informational Text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Reading Literature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Speaking and Listening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5600" y="241200"/>
            <a:ext cx="8632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PA Common Core Standards Focu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rc 1"/>
          <p:cNvSpPr/>
          <p:nvPr/>
        </p:nvSpPr>
        <p:spPr>
          <a:xfrm>
            <a:off x="344520" y="716040"/>
            <a:ext cx="8400960" cy="25146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Arc 2"/>
          <p:cNvSpPr/>
          <p:nvPr/>
        </p:nvSpPr>
        <p:spPr>
          <a:xfrm>
            <a:off x="363600" y="1579680"/>
            <a:ext cx="8400960" cy="761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44520" y="2658960"/>
            <a:ext cx="156204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039760" y="2658960"/>
            <a:ext cx="161928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792600" y="2658960"/>
            <a:ext cx="154296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5468760" y="2658960"/>
            <a:ext cx="161928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78840" y="2658960"/>
            <a:ext cx="146664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1" name="Straight Connector 8"/>
          <p:cNvSpPr/>
          <p:nvPr/>
        </p:nvSpPr>
        <p:spPr>
          <a:xfrm flipH="1">
            <a:off x="1125360" y="1668600"/>
            <a:ext cx="1447920" cy="99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2" name="Straight Connector 9"/>
          <p:cNvSpPr/>
          <p:nvPr/>
        </p:nvSpPr>
        <p:spPr>
          <a:xfrm flipH="1">
            <a:off x="2849040" y="1619280"/>
            <a:ext cx="63828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3" name="Straight Connector 10"/>
          <p:cNvSpPr/>
          <p:nvPr/>
        </p:nvSpPr>
        <p:spPr>
          <a:xfrm flipH="1">
            <a:off x="4564080" y="1619280"/>
            <a:ext cx="3816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4" name="Straight Connector 11"/>
          <p:cNvSpPr/>
          <p:nvPr/>
        </p:nvSpPr>
        <p:spPr>
          <a:xfrm>
            <a:off x="5850000" y="1592280"/>
            <a:ext cx="42840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5" name="Straight Connector 12"/>
          <p:cNvSpPr/>
          <p:nvPr/>
        </p:nvSpPr>
        <p:spPr>
          <a:xfrm>
            <a:off x="6688080" y="1619280"/>
            <a:ext cx="132408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361800" y="4390920"/>
            <a:ext cx="8307360" cy="1621080"/>
          </a:xfrm>
          <a:prstGeom prst="rect">
            <a:avLst/>
          </a:prstGeom>
          <a:noFill/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7" name="TextBox 39"/>
          <p:cNvSpPr/>
          <p:nvPr/>
        </p:nvSpPr>
        <p:spPr>
          <a:xfrm>
            <a:off x="1211400" y="134460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llege and Career Readiness Anchor Standards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8" name="Right Arrow 15"/>
          <p:cNvSpPr/>
          <p:nvPr/>
        </p:nvSpPr>
        <p:spPr>
          <a:xfrm>
            <a:off x="487440" y="44686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Right Arrow 16"/>
          <p:cNvSpPr/>
          <p:nvPr/>
        </p:nvSpPr>
        <p:spPr>
          <a:xfrm>
            <a:off x="487440" y="479412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Right Arrow 17"/>
          <p:cNvSpPr/>
          <p:nvPr/>
        </p:nvSpPr>
        <p:spPr>
          <a:xfrm>
            <a:off x="517680" y="5419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Right Arrow 18"/>
          <p:cNvSpPr/>
          <p:nvPr/>
        </p:nvSpPr>
        <p:spPr>
          <a:xfrm>
            <a:off x="506520" y="509256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2" name="TextBox 44"/>
          <p:cNvSpPr/>
          <p:nvPr/>
        </p:nvSpPr>
        <p:spPr>
          <a:xfrm>
            <a:off x="792000" y="4390920"/>
            <a:ext cx="78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A:  Research behind the standards and a glossary of terms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3" name="Rectangle 45"/>
          <p:cNvSpPr/>
          <p:nvPr/>
        </p:nvSpPr>
        <p:spPr>
          <a:xfrm>
            <a:off x="820800" y="4603680"/>
            <a:ext cx="78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Appendix B: Text exemplars illustrating complexity, quality, and range of reading appropriateness 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4" name="Rectangle 46"/>
          <p:cNvSpPr/>
          <p:nvPr/>
        </p:nvSpPr>
        <p:spPr>
          <a:xfrm>
            <a:off x="811080" y="5014800"/>
            <a:ext cx="785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Appendix C: Annotated samples of student writing at various grades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Rectangle 47"/>
          <p:cNvSpPr/>
          <p:nvPr/>
        </p:nvSpPr>
        <p:spPr>
          <a:xfrm>
            <a:off x="822240" y="5270400"/>
            <a:ext cx="784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Appendix D: Literacy standards for History and Social Studies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6" name="TextBox 49"/>
          <p:cNvSpPr/>
          <p:nvPr/>
        </p:nvSpPr>
        <p:spPr>
          <a:xfrm>
            <a:off x="2046240" y="2665440"/>
            <a:ext cx="156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ading Informational Text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Rectangle 50"/>
          <p:cNvSpPr/>
          <p:nvPr/>
        </p:nvSpPr>
        <p:spPr>
          <a:xfrm>
            <a:off x="3962520" y="275112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Reading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Literature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8" name="Rectangle 51"/>
          <p:cNvSpPr/>
          <p:nvPr/>
        </p:nvSpPr>
        <p:spPr>
          <a:xfrm>
            <a:off x="315720" y="2662200"/>
            <a:ext cx="168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Foundational Skills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Rectangle 52"/>
          <p:cNvSpPr/>
          <p:nvPr/>
        </p:nvSpPr>
        <p:spPr>
          <a:xfrm>
            <a:off x="5838480" y="265752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Writing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Rectangle 53"/>
          <p:cNvSpPr/>
          <p:nvPr/>
        </p:nvSpPr>
        <p:spPr>
          <a:xfrm>
            <a:off x="7321680" y="2620800"/>
            <a:ext cx="142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Speaking &amp; Listening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1" name="TextBox 55"/>
          <p:cNvSpPr/>
          <p:nvPr/>
        </p:nvSpPr>
        <p:spPr>
          <a:xfrm>
            <a:off x="343080" y="2828880"/>
            <a:ext cx="15634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necessary  component of an effective,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prehensive reading program designed to develop proficient readers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2" name="TextBox 56"/>
          <p:cNvSpPr/>
          <p:nvPr/>
        </p:nvSpPr>
        <p:spPr>
          <a:xfrm>
            <a:off x="2068560" y="3352680"/>
            <a:ext cx="1563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ables students to read, understand, and respond to informational texts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3" name="TextBox 57"/>
          <p:cNvSpPr/>
          <p:nvPr/>
        </p:nvSpPr>
        <p:spPr>
          <a:xfrm>
            <a:off x="3792600" y="3282840"/>
            <a:ext cx="1542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ables students to read, understand, and respond to literatur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TextBox 58"/>
          <p:cNvSpPr/>
          <p:nvPr/>
        </p:nvSpPr>
        <p:spPr>
          <a:xfrm>
            <a:off x="5468760" y="2844720"/>
            <a:ext cx="16192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velops the skills of informational, argumentative, and narrative writing as well as the ability to engage in evidence based analysis of text and research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TextBox 63"/>
          <p:cNvSpPr/>
          <p:nvPr/>
        </p:nvSpPr>
        <p:spPr>
          <a:xfrm>
            <a:off x="7321680" y="3006720"/>
            <a:ext cx="14238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ocuses students on communication skills that enable critical listening and effective presentation of ideas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Right Arrow 33"/>
          <p:cNvSpPr/>
          <p:nvPr/>
        </p:nvSpPr>
        <p:spPr>
          <a:xfrm>
            <a:off x="515880" y="572436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7" name="TextBox 65"/>
          <p:cNvSpPr/>
          <p:nvPr/>
        </p:nvSpPr>
        <p:spPr>
          <a:xfrm>
            <a:off x="865080" y="5568840"/>
            <a:ext cx="78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E: Literacy standards for Science and Technical Subjects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2268360" y="731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PA Common Core Standards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English Language Arts &amp; Literacy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1062000" y="584280"/>
            <a:ext cx="710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Navigation to PA Common Cor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(English &amp; Math Courses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450720" y="2690640"/>
            <a:ext cx="8271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Download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1"/>
              </a:rPr>
              <a:t>http://pdesas.org/Standard/CommonCore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86660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Similar to existing standard coding system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Language collaboration between existing standard and Common Core language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Standard Coding/Numbering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6"/>
          <p:cNvGrpSpPr/>
          <p:nvPr/>
        </p:nvGrpSpPr>
        <p:grpSpPr>
          <a:xfrm>
            <a:off x="204840" y="1554120"/>
            <a:ext cx="6653160" cy="4097160"/>
            <a:chOff x="204840" y="1554120"/>
            <a:chExt cx="6653160" cy="4097160"/>
          </a:xfrm>
        </p:grpSpPr>
        <p:sp>
          <p:nvSpPr>
            <p:cNvPr id="244" name="Text Box 7"/>
            <p:cNvSpPr/>
            <p:nvPr/>
          </p:nvSpPr>
          <p:spPr>
            <a:xfrm>
              <a:off x="2017080" y="1554120"/>
              <a:ext cx="475020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CC.  1.   5.   6.   B</a:t>
              </a:r>
              <a:endParaRPr b="0" lang="en-US" sz="40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5" name="Line 8"/>
            <p:cNvSpPr/>
            <p:nvPr/>
          </p:nvSpPr>
          <p:spPr>
            <a:xfrm flipH="1">
              <a:off x="2864520" y="2290680"/>
              <a:ext cx="763560" cy="148716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6" name="Line 9"/>
            <p:cNvSpPr/>
            <p:nvPr/>
          </p:nvSpPr>
          <p:spPr>
            <a:xfrm>
              <a:off x="4484880" y="2290680"/>
              <a:ext cx="0" cy="272916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7" name="Line 10"/>
            <p:cNvSpPr/>
            <p:nvPr/>
          </p:nvSpPr>
          <p:spPr>
            <a:xfrm>
              <a:off x="5388120" y="2290680"/>
              <a:ext cx="709920" cy="18054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1445760" y="2290680"/>
              <a:ext cx="1117440" cy="10782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9" name="Text Box 12"/>
            <p:cNvSpPr/>
            <p:nvPr/>
          </p:nvSpPr>
          <p:spPr>
            <a:xfrm>
              <a:off x="204840" y="3372480"/>
              <a:ext cx="195984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 Common Core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50" name="Text Box 13"/>
            <p:cNvSpPr/>
            <p:nvPr/>
          </p:nvSpPr>
          <p:spPr>
            <a:xfrm>
              <a:off x="5702760" y="4096080"/>
              <a:ext cx="11552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rade Level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2017080" y="3778920"/>
              <a:ext cx="140724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nglish Language Arts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52" name="Text Box 15"/>
            <p:cNvSpPr/>
            <p:nvPr/>
          </p:nvSpPr>
          <p:spPr>
            <a:xfrm>
              <a:off x="3749760" y="4783320"/>
              <a:ext cx="1372680" cy="8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peaking &amp; Listening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53" name="Line 10"/>
          <p:cNvSpPr/>
          <p:nvPr/>
        </p:nvSpPr>
        <p:spPr>
          <a:xfrm>
            <a:off x="6418440" y="2290680"/>
            <a:ext cx="784080" cy="1257480"/>
          </a:xfrm>
          <a:prstGeom prst="line">
            <a:avLst/>
          </a:prstGeom>
          <a:ln w="442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7202520" y="3672000"/>
            <a:ext cx="17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aking &amp; Listen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 2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TextBox 13"/>
          <p:cNvSpPr/>
          <p:nvPr/>
        </p:nvSpPr>
        <p:spPr>
          <a:xfrm>
            <a:off x="-87480" y="353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Reading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PA Common Core Coding/Numbering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509400" y="1643040"/>
            <a:ext cx="8267400" cy="464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Increase depth of knowledge with metacognition development throughout all grade levels bands.</a:t>
            </a: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Metacognitive development through skill acquisition:</a:t>
            </a: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Meta-memory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Meta-comprehension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Self-regulation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Spiral of learning that revisits metacognitive development (learning strategies).</a:t>
            </a: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Overall Chang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328680" y="304920"/>
            <a:ext cx="727704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Recognizing Rigor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Depth of Knowledge” tool; DOK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Rectangle 3"/>
          <p:cNvSpPr/>
          <p:nvPr/>
        </p:nvSpPr>
        <p:spPr>
          <a:xfrm rot="19200">
            <a:off x="1483920" y="4535280"/>
            <a:ext cx="64292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28680" y="1698480"/>
            <a:ext cx="815328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A tool and scale of cognitive demand levels (thinking)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7fd5"/>
                </a:solidFill>
                <a:latin typeface="Palatino Linotype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to align standards with assessmen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Based on the research of </a:t>
            </a:r>
            <a:r>
              <a:rPr b="0" lang="en-US" sz="2000" spc="-1" strike="noStrike">
                <a:solidFill>
                  <a:srgbClr val="297fd5"/>
                </a:solidFill>
                <a:latin typeface="Palatino Linotype"/>
                <a:ea typeface="ＭＳ Ｐゴシック"/>
              </a:rPr>
              <a:t>Norman Webb,  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University of Wisconsin Center for Education Research and the National Institute for Science Education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Defines the </a:t>
            </a:r>
            <a:r>
              <a:rPr b="0" lang="ja-JP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Arial"/>
              </a:rPr>
              <a:t>ceiling</a:t>
            </a:r>
            <a:r>
              <a:rPr b="0" lang="ja-JP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Arial"/>
              </a:rPr>
              <a:t> or highest DOK level for each Core Content standard for the state assessmen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Arial"/>
              </a:rPr>
              <a:t>Guides item development for state assessmen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61" name="Picture 6" descr="MCj01875870000[1]"/>
          <p:cNvPicPr/>
          <p:nvPr/>
        </p:nvPicPr>
        <p:blipFill>
          <a:blip r:embed="rId1"/>
          <a:stretch/>
        </p:blipFill>
        <p:spPr>
          <a:xfrm>
            <a:off x="7702560" y="426960"/>
            <a:ext cx="1069920" cy="12589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2762280" y="857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itle 1"/>
          <p:cNvSpPr/>
          <p:nvPr/>
        </p:nvSpPr>
        <p:spPr>
          <a:xfrm>
            <a:off x="457200" y="32544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Arial"/>
              </a:rPr>
              <a:t>Depth of Knowledge Levels (DOK)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28680" y="1044720"/>
          <a:ext cx="8358120" cy="5584680"/>
        </p:xfrm>
        <a:graphic>
          <a:graphicData uri="http://schemas.openxmlformats.org/drawingml/2006/table">
            <a:tbl>
              <a:tblPr/>
              <a:tblGrid>
                <a:gridCol w="1679400"/>
                <a:gridCol w="6678720"/>
              </a:tblGrid>
              <a:tr h="411840">
                <a:tc gridSpan="2"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DEFINI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all &amp; Rep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recalls facts, information, procedures, or definition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kills &amp; Conce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information, conceptual knowledge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d procedur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rategic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reasoning and develops a plan or sequence of steps; process has some complexity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844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4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ended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conducts an investigation, needs time to think and process multiple conditions of problem or task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6E70F-EE48-40D3-89EF-980BF1976A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5800" y="150660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te led - coordinated by NGA (National Governor’s Association) Center and CCSSO (Council of Chief State School Officer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gorous content and application of knowledge through high-order skill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ild upon strengths and lessons of current state standard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rnationally benchmarked so that all students are prepared to succeed in our global economy and society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31572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Palatino Linotype"/>
              </a:rPr>
              <a:t>What are the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Palatino Linotype"/>
              </a:rPr>
              <a:t>Common Core State Standards/CCSS ?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457200" y="598320"/>
            <a:ext cx="82296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Depth of Knowledg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69840" y="1905120"/>
            <a:ext cx="784872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Depth of Knowledge is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NOT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termined by the verb, but th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xt in which the verb is use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d th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pth of thinking requir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279360" y="703440"/>
            <a:ext cx="81788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Exploring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he Cognitive Rigor Matrix” 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(K. Hes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69" name="TextBox 3" descr=""/>
          <p:cNvPicPr/>
          <p:nvPr/>
        </p:nvPicPr>
        <p:blipFill>
          <a:blip r:embed="rId1"/>
          <a:stretch/>
        </p:blipFill>
        <p:spPr>
          <a:xfrm>
            <a:off x="738360" y="3067200"/>
            <a:ext cx="783252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Equalizer DI PlnngTool copy.pdf"/>
          <p:cNvPicPr/>
          <p:nvPr/>
        </p:nvPicPr>
        <p:blipFill>
          <a:blip r:embed="rId1"/>
          <a:stretch/>
        </p:blipFill>
        <p:spPr>
          <a:xfrm>
            <a:off x="1981080" y="914400"/>
            <a:ext cx="5220000" cy="55753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"/>
          <p:cNvSpPr/>
          <p:nvPr/>
        </p:nvSpPr>
        <p:spPr>
          <a:xfrm>
            <a:off x="0" y="88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Recognizing Rigor; Equalizer Planning Tool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330120" y="1957320"/>
            <a:ext cx="843300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nsider appropriateness in task rigor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The zone of proximal development has been defined as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the distance between the actual developmental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level as determined by independent problem solving </a:t>
            </a:r>
            <a:r>
              <a:rPr b="1" i="1" lang="en-US" sz="2400" spc="-1" strike="noStrike">
                <a:solidFill>
                  <a:srgbClr val="ffffff"/>
                </a:solidFill>
                <a:latin typeface="Palatino Linotype"/>
              </a:rPr>
              <a:t>and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he level of potential development as determined through problem solving under adult guidance, or in collaboration with more capable peers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” 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(Vygotsky, 1978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In other words, it is the range of abilities that a person has to perform tasks with assistance, but cannot yet perform independently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0" y="639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Rigor and ZPD -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The Zone of Proximal Development (ZPD)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5130720" y="15876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Producing Cognitive Sweat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76" name="Picture 2" descr="http://www.scientificamerican.com/media/inline/does-brain-size-matter_1.jpg"/>
          <p:cNvPicPr/>
          <p:nvPr/>
        </p:nvPicPr>
        <p:blipFill>
          <a:blip r:embed="rId1"/>
          <a:stretch/>
        </p:blipFill>
        <p:spPr>
          <a:xfrm>
            <a:off x="1387440" y="1122480"/>
            <a:ext cx="5438880" cy="3473280"/>
          </a:xfrm>
          <a:prstGeom prst="rect">
            <a:avLst/>
          </a:prstGeom>
          <a:ln w="0">
            <a:noFill/>
          </a:ln>
        </p:spPr>
      </p:pic>
      <p:sp>
        <p:nvSpPr>
          <p:cNvPr id="277" name="Teardrop 3"/>
          <p:cNvSpPr/>
          <p:nvPr/>
        </p:nvSpPr>
        <p:spPr>
          <a:xfrm rot="4632000">
            <a:off x="2346480" y="2268000"/>
            <a:ext cx="457200" cy="457200"/>
          </a:xfrm>
          <a:prstGeom prst="pie">
            <a:avLst/>
          </a:prstGeom>
          <a:solidFill>
            <a:srgbClr val="0070c0">
              <a:alpha val="61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8" name="Teardrop 4"/>
          <p:cNvSpPr/>
          <p:nvPr/>
        </p:nvSpPr>
        <p:spPr>
          <a:xfrm rot="5400000">
            <a:off x="2301840" y="1515960"/>
            <a:ext cx="457200" cy="457200"/>
          </a:xfrm>
          <a:prstGeom prst="pie">
            <a:avLst/>
          </a:prstGeom>
          <a:solidFill>
            <a:srgbClr val="0070c0">
              <a:alpha val="82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Teardrop 5"/>
          <p:cNvSpPr/>
          <p:nvPr/>
        </p:nvSpPr>
        <p:spPr>
          <a:xfrm rot="10390200">
            <a:off x="6292440" y="1960560"/>
            <a:ext cx="457200" cy="457200"/>
          </a:xfrm>
          <a:prstGeom prst="pie">
            <a:avLst/>
          </a:prstGeom>
          <a:solidFill>
            <a:srgbClr val="0070c0">
              <a:alpha val="53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0" name="Teardrop 6"/>
          <p:cNvSpPr/>
          <p:nvPr/>
        </p:nvSpPr>
        <p:spPr>
          <a:xfrm rot="10315800">
            <a:off x="6141960" y="1287360"/>
            <a:ext cx="457200" cy="457200"/>
          </a:xfrm>
          <a:prstGeom prst="pie">
            <a:avLst/>
          </a:prstGeom>
          <a:solidFill>
            <a:srgbClr val="0070c0">
              <a:alpha val="74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Teardrop 7"/>
          <p:cNvSpPr/>
          <p:nvPr/>
        </p:nvSpPr>
        <p:spPr>
          <a:xfrm rot="11651400">
            <a:off x="6875640" y="2160360"/>
            <a:ext cx="457200" cy="457200"/>
          </a:xfrm>
          <a:prstGeom prst="pie">
            <a:avLst/>
          </a:prstGeom>
          <a:solidFill>
            <a:srgbClr val="0070c0">
              <a:alpha val="56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Teardrop 8"/>
          <p:cNvSpPr/>
          <p:nvPr/>
        </p:nvSpPr>
        <p:spPr>
          <a:xfrm rot="19416600">
            <a:off x="3836520" y="367200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3" name="Teardrop 9"/>
          <p:cNvSpPr/>
          <p:nvPr/>
        </p:nvSpPr>
        <p:spPr>
          <a:xfrm rot="3359400">
            <a:off x="1720440" y="231264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4" name="Teardrop 10"/>
          <p:cNvSpPr/>
          <p:nvPr/>
        </p:nvSpPr>
        <p:spPr>
          <a:xfrm rot="18984000">
            <a:off x="5073120" y="2831760"/>
            <a:ext cx="457200" cy="457200"/>
          </a:xfrm>
          <a:prstGeom prst="pie">
            <a:avLst/>
          </a:prstGeom>
          <a:solidFill>
            <a:srgbClr val="0070c0">
              <a:alpha val="85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5" name="Teardrop 11"/>
          <p:cNvSpPr/>
          <p:nvPr/>
        </p:nvSpPr>
        <p:spPr>
          <a:xfrm rot="19065000">
            <a:off x="6362280" y="4603680"/>
            <a:ext cx="457200" cy="457200"/>
          </a:xfrm>
          <a:prstGeom prst="pie">
            <a:avLst/>
          </a:prstGeom>
          <a:solidFill>
            <a:srgbClr val="0070c0">
              <a:alpha val="72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1387440" y="4554360"/>
            <a:ext cx="567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Meeting the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Rigor of the Common Core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52360" y="1155240"/>
            <a:ext cx="8748720" cy="538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Continuation of NCLB encouraged by refined educational ideology and direction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Intent: raise educational rigor and achieve state/national standards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48 States adopted Common Core or version thereof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PA has altered Common Core to a minimal extent to  meet existing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(a) assessment tools expectation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(b) common language use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Transition timeline: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phase in beginning in 2012 – 2013; guided by AIU Consultant &amp;                     FCASD Think Tank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expectation for integration of practices in the 2013 – 2014 school year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Backgroun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4503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Driving Forces Leading to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CC Literacy Standards in the Content Area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223560" y="1498680"/>
            <a:ext cx="87678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Based on a range of national and internationally benchmarked assessments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1. Intensity of Rigor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proficiency in most state level standardized assessments fall below the proficiency on the NAEP  (nation’s  report card)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performance declines in upper grades -  students lose momentum in high school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student readiness for college/work at an all time low.   Inadequate: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Verbal reasoning ability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Understanding of words used in tex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Background knowledge about domains represented in tex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Familiarity with semantic and syntactic structures that assist with the understanding between relationships and IDEA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243000" y="1733400"/>
            <a:ext cx="872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Palatino Linotype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Communications on a national level:  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discrepancy in proficiency measures across states – uneven student expectations - lack of focused guideposts for parents, educators, student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457200" indent="-457200">
              <a:buClr>
                <a:srgbClr val="ffffff"/>
              </a:buClr>
              <a:buFont typeface="Palatino Linotype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International measures &amp; comparisons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: country falling behind; U.S. curriculum tends to be wide as  opposed to deep - compared with other successful countrie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Driving Forces -- Continue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Profile of a Common Core Graduat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98080" y="1003320"/>
            <a:ext cx="8458200" cy="570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Responsive to varying audience, points of view, tasks, purpose, discipline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Independent learner and thinker --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focus on metacognition: self assessment, goal setting/plan-making….)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; able to comprehend and critique works of quality and substance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Values evidence and supports related to argumen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Development of skills and attributes in the areas of: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ommunication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ollaboration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reativity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ritical thinking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echnology and digital media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Understanding of other Perspectives/Cultures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537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CC Overarching Theme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04920" y="1228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mmon Core Standards support and encourage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A high degree of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rigor, metacognition, 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and student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collaboration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Emphasis on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non-fiction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occurs throughout the grades as well as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increasing the amount of student reading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Technology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embedded  throughout learning experiences and emphasis on the use of digital resources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648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537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CC Overarching Themes -- Continue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920" y="1228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Common Core Standards support and encourage: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Speaking and Listening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standards are much more specific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Writing 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on a daily basis for a variety of purposes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academic writing 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– argument/explanation/research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Relevant levels of Text complexity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 - prominent addition (with exemplars)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Specificity </a:t>
            </a: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and </a:t>
            </a:r>
            <a:r>
              <a:rPr b="1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scaffolding</a:t>
            </a: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 of standards provides vertical articulation to support </a:t>
            </a:r>
            <a:r>
              <a:rPr b="1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ext complexity</a:t>
            </a: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Text connections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 throughout the grade levels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648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26560" y="2179440"/>
            <a:ext cx="831708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Read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569160" indent="-22716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Foundational skill acquired K-5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56916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Writ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Speaking &amp; Listen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Language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ntent-area subjects incorporation and cross-curricular implementation of reading &amp; writing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ELA/Literacy Common Core Focu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23:49:02Z</dcterms:created>
  <dc:creator>Teacher FCASD</dc:creator>
  <dc:description/>
  <dc:language>en-US</dc:language>
  <cp:lastModifiedBy>Teacher FCASD</cp:lastModifiedBy>
  <cp:lastPrinted>2012-06-04T17:59:55Z</cp:lastPrinted>
  <dcterms:modified xsi:type="dcterms:W3CDTF">2012-06-07T02:38:47Z</dcterms:modified>
  <cp:revision>92</cp:revision>
  <dc:subject/>
  <dc:title>PA Common Core Standards</dc:title>
</cp:coreProperties>
</file>