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26990-BDB5-412B-BCC1-82157A1A3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4E9E8-4119-4590-9BF6-FC34D374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BFCDC-533B-4257-A31D-DE4B9EF2C1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949-B96F-4660-AF03-AAED3017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7D7-0271-4AAA-A90C-C1A695E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08A-1C7F-41E4-A641-DC60E188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85F-44CC-4076-9A45-3B9F146C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C52-D67A-48EB-B10C-7226A579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371-F399-46A2-8ABB-5879D631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05E-15C4-429C-B67E-F571249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186-04E7-4A7B-B9BD-57513CC2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470-F6AD-4986-AFFE-EEDA8288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CEC-71C7-4D81-A732-D49B9118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4E8-2D5C-40D0-82A1-A4CDE03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8F4-E4C5-45D8-A25F-504C29E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E6145-8154-4914-A334-964CCA4B79E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3B743-9BF6-414D-AFF6-F470D25BD6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0" y="442800"/>
            <a:ext cx="8688240" cy="27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Transition to 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~ PA Common Core Standards ~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English Language Arts,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Literacy across the Curriculu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1240" y="3587760"/>
            <a:ext cx="703260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n Overview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ckground, Expectation, &amp; Explo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FCASD prepared with support from the AI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June/August 201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685800" y="2174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Common Core Standard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Placeholder 2"/>
          <p:cNvSpPr/>
          <p:nvPr/>
        </p:nvSpPr>
        <p:spPr>
          <a:xfrm>
            <a:off x="309600" y="1687680"/>
            <a:ext cx="86281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viewing standards throughout the web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rades 6-12 Literacy in History/Social Studies, Science, &amp; Technical Subject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bottom left s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Ancho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History/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cience &amp; Technical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r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PA Common Core Standards </a:t>
            </a:r>
            <a:br>
              <a:rPr sz="4000"/>
            </a:b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rc 1"/>
          <p:cNvSpPr/>
          <p:nvPr/>
        </p:nvSpPr>
        <p:spPr>
          <a:xfrm>
            <a:off x="361800" y="1181160"/>
            <a:ext cx="840132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rc 2"/>
          <p:cNvSpPr/>
          <p:nvPr/>
        </p:nvSpPr>
        <p:spPr>
          <a:xfrm>
            <a:off x="361800" y="2057400"/>
            <a:ext cx="8401320" cy="762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1800" y="3124080"/>
            <a:ext cx="15624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57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3124080"/>
            <a:ext cx="15433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86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96120" y="3124080"/>
            <a:ext cx="14670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 flipH="1">
            <a:off x="1143000" y="213372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 flipH="1">
            <a:off x="2866680" y="208440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 flipH="1">
            <a:off x="4581360" y="208440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11"/>
          <p:cNvSpPr/>
          <p:nvPr/>
        </p:nvSpPr>
        <p:spPr>
          <a:xfrm>
            <a:off x="5867280" y="2057400"/>
            <a:ext cx="42876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2"/>
          <p:cNvSpPr/>
          <p:nvPr/>
        </p:nvSpPr>
        <p:spPr>
          <a:xfrm>
            <a:off x="6705720" y="2084400"/>
            <a:ext cx="132372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79440" y="4856040"/>
            <a:ext cx="8307360" cy="16210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1228680" y="18097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Arrow 15"/>
          <p:cNvSpPr/>
          <p:nvPr/>
        </p:nvSpPr>
        <p:spPr>
          <a:xfrm>
            <a:off x="504720" y="49338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ight Arrow 16"/>
          <p:cNvSpPr/>
          <p:nvPr/>
        </p:nvSpPr>
        <p:spPr>
          <a:xfrm>
            <a:off x="504720" y="52592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ight Arrow 17"/>
          <p:cNvSpPr/>
          <p:nvPr/>
        </p:nvSpPr>
        <p:spPr>
          <a:xfrm>
            <a:off x="534960" y="5884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ight Arrow 18"/>
          <p:cNvSpPr/>
          <p:nvPr/>
        </p:nvSpPr>
        <p:spPr>
          <a:xfrm>
            <a:off x="523800" y="5557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809640" y="485604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838080" y="5181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828720" y="547992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39880" y="5735520"/>
            <a:ext cx="78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teracy standards for History and Social Stu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49"/>
          <p:cNvSpPr/>
          <p:nvPr/>
        </p:nvSpPr>
        <p:spPr>
          <a:xfrm>
            <a:off x="2112840" y="306072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4141080" y="3122640"/>
            <a:ext cx="9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78520" y="308628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5928840" y="3122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7338960" y="308628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eaking &amp; List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5"/>
          <p:cNvSpPr/>
          <p:nvPr/>
        </p:nvSpPr>
        <p:spPr>
          <a:xfrm>
            <a:off x="409680" y="347184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necessary  component of an effective, 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085840" y="3817800"/>
            <a:ext cx="156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7"/>
          <p:cNvSpPr/>
          <p:nvPr/>
        </p:nvSpPr>
        <p:spPr>
          <a:xfrm>
            <a:off x="3809880" y="3747960"/>
            <a:ext cx="154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5486400" y="330984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3"/>
          <p:cNvSpPr/>
          <p:nvPr/>
        </p:nvSpPr>
        <p:spPr>
          <a:xfrm>
            <a:off x="7296120" y="3478320"/>
            <a:ext cx="1424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ight Arrow 33"/>
          <p:cNvSpPr/>
          <p:nvPr/>
        </p:nvSpPr>
        <p:spPr>
          <a:xfrm>
            <a:off x="533520" y="61898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5"/>
          <p:cNvSpPr/>
          <p:nvPr/>
        </p:nvSpPr>
        <p:spPr>
          <a:xfrm>
            <a:off x="857160" y="611496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8600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685800" y="403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to PA Common Core Standards</a:t>
            </a:r>
            <a:br>
              <a:rPr sz="40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English Language Arts &amp; Mathema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341280" y="2133720"/>
            <a:ext cx="8502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.  Pennsylvania Common Core Standards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PreK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6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 PreK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2.  PA Common Core Append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LA Appendix A-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ematic Appendix A &amp; 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3.  ELA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4.  Mathematics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5.  ELA Emphasis Gu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6.  Mathematics Emphasis Guides and Cluster Mat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04840" y="1554120"/>
            <a:ext cx="6653160" cy="4410000"/>
            <a:chOff x="204840" y="1554120"/>
            <a:chExt cx="6653160" cy="4410000"/>
          </a:xfrm>
        </p:grpSpPr>
        <p:sp>
          <p:nvSpPr>
            <p:cNvPr id="113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H="1">
              <a:off x="2864520" y="229032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4484880" y="2290320"/>
              <a:ext cx="0" cy="27288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0"/>
            <p:cNvSpPr/>
            <p:nvPr/>
          </p:nvSpPr>
          <p:spPr>
            <a:xfrm>
              <a:off x="5388120" y="229032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>
              <a:off x="1445760" y="2290320"/>
              <a:ext cx="1117440" cy="107784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204840" y="337212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702760" y="409572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2017080" y="377856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749760" y="5045760"/>
              <a:ext cx="137268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-87480" y="35388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Calibri"/>
              </a:rPr>
              <a:t>Overall Char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 depth of knowledge with metacognition development throughout all grade levels (band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cognition development through learning skill acquisition within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clone of learning that revisits metacognition development (learning strategies) throughout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28600" y="250920"/>
            <a:ext cx="689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Rig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What is Depth of Knowledge (DOK) </a:t>
            </a:r>
            <a:r>
              <a:rPr b="1" lang="en-US" sz="2400" spc="-1" strike="noStrike">
                <a:solidFill>
                  <a:srgbClr val="3659b1"/>
                </a:solidFill>
                <a:latin typeface="Chalkboard Bold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8680" y="1380960"/>
            <a:ext cx="8153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scale of cognitive demand levels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(thinkin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o align standards with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ased on the research of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Norman Webb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es the 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eiling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or highest DOK level for each Core Content standard for the stat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Guides item development for state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MCj01875870000[1]"/>
          <p:cNvPicPr/>
          <p:nvPr/>
        </p:nvPicPr>
        <p:blipFill>
          <a:blip r:embed="rId2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746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Webb</a:t>
            </a:r>
            <a:r>
              <a:rPr b="0" lang="ja-JP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’</a:t>
            </a: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Arial"/>
              </a:rPr>
              <a:t>s DOK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8680" y="934920"/>
          <a:ext cx="8358120" cy="559620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2192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E6DD7-60BA-4A05-9013-5FA14C4F87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7724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651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33360" y="703440"/>
            <a:ext cx="6143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Exploring 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The Cognitive Rigor Matrix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59b1"/>
                </a:solidFill>
                <a:latin typeface="Calibri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TextBox 3" descr=""/>
          <p:cNvPicPr/>
          <p:nvPr/>
        </p:nvPicPr>
        <p:blipFill>
          <a:blip r:embed="rId2"/>
          <a:stretch/>
        </p:blipFill>
        <p:spPr>
          <a:xfrm>
            <a:off x="738360" y="3279600"/>
            <a:ext cx="7832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Aharoni"/>
                <a:ea typeface="ＭＳ Ｐゴシック"/>
              </a:rPr>
              <a:t>Producing Cognitive Swe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scientificamerican.com/media/inline/does-brain-size-matter_1.jpg"/>
          <p:cNvPicPr/>
          <p:nvPr/>
        </p:nvPicPr>
        <p:blipFill>
          <a:blip r:embed="rId2"/>
          <a:stretch/>
        </p:blipFill>
        <p:spPr>
          <a:xfrm>
            <a:off x="2108160" y="1282680"/>
            <a:ext cx="5438880" cy="3473640"/>
          </a:xfrm>
          <a:prstGeom prst="rect">
            <a:avLst/>
          </a:prstGeom>
          <a:ln w="0">
            <a:noFill/>
          </a:ln>
        </p:spPr>
      </p:pic>
      <p:sp>
        <p:nvSpPr>
          <p:cNvPr id="141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838080" y="503712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eting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gor of the Common C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772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ontinuation of NCLB encouraged by refined educational ideology and direction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Intent: raise educational rigor and achieve state/national standards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48 States adopted Common Core or version thereof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PA has altered Common Core to a minimal extent to  meet existing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a) assessment tools expectation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b) common language us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: expectation for integration of practices in th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 – 2014 school ye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Driving Forces Leading to </a:t>
            </a:r>
            <a:br>
              <a:rPr sz="3200"/>
            </a:b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CC Literacy Standards for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sed on a range of national and internationally benchmarked assessment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s are losing momentum during high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 readiness for college/work at an all time lo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adequat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erbal reasoning abil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derstanding of words us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ackground knowledge about domains represent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amiliarity with semantic and syntactic structures that assist with the understanding between relationships and ID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652B3-5E5B-4B4A-A644-955BC0F2FF8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Profile of a Common Core Gradu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onsive to varying audience, task, purpose, and discip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pendent learner able to comprehend and critique works of quality and sub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lue Evidence – relevant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ology and Digital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other Perspectives/Cul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BF065-A161-4D59-AEB1-8E173120F00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Overarching the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upports a high degree of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igor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nd student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emphasis on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on-fiction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curs throughout the grades as well a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creasing the amount of student rea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chnolog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embedded and emphasizes the use of digital resourc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a daily basis for a variety of purposes is encourage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a prominent addition with exemplar tex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cific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caffol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of standards providing vertical articulation to support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nnections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emphasized throughout the grade level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ELA/Literacy Common Core </a:t>
            </a:r>
            <a:br>
              <a:rPr sz="3600"/>
            </a:b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 acquired K-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aking &amp; Liste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-area subjects incorporation and cross-curricular implementation for reading &amp; writ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3"/>
          <p:cNvSpPr/>
          <p:nvPr/>
        </p:nvSpPr>
        <p:spPr>
          <a:xfrm>
            <a:off x="685800" y="3254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on to Common Core Download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Placeholder 4"/>
          <p:cNvSpPr/>
          <p:nvPr/>
        </p:nvSpPr>
        <p:spPr>
          <a:xfrm>
            <a:off x="1371600" y="2585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andards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wnlo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tate Standards Arts &amp; Literacy in History/Social Studies, Science, &amp; Technical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21:19Z</dcterms:created>
  <dc:creator>Teacher FCASD</dc:creator>
  <dc:description/>
  <dc:language>en-US</dc:language>
  <cp:lastModifiedBy>Teacher FCASD</cp:lastModifiedBy>
  <dcterms:modified xsi:type="dcterms:W3CDTF">2012-06-04T18:53:13Z</dcterms:modified>
  <cp:revision>23</cp:revision>
  <dc:subject/>
  <dc:title>PA Common Core Standards</dc:title>
</cp:coreProperties>
</file>