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C4F69-92BA-48BF-968A-DB5682334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C4B3F-B1B9-48A2-85FB-52B6D4F59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936C4-2F36-42F8-8036-351AA51FE3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E5F-CD9F-41C0-8F21-1D4AA27A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47E-9E2B-4A91-86C5-C3C4536B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421-39D2-46EF-BD23-D584C576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4ED-2816-4097-9189-8625A181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004-5F7B-40EB-91FF-1452A75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DC5-A6CD-4965-B1DE-67B004A0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936-7BBB-440E-8CAF-F1FEA29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CD3-BF76-4A87-8C21-A7392377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C3F-3447-40F0-BB02-72B4977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D20-65E8-498F-83D5-9117F3E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0EE-A118-437B-9792-3058670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51D-17EB-4F41-BDB7-D9C94F0C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648C6-7B33-4EA7-B102-3F7BA3A0D58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F5E25-DBBF-4541-8145-4131648C97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0" y="442800"/>
            <a:ext cx="8688240" cy="27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Transition to 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~ PA Common Core Standards ~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English Language Arts,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Literacy across the Curriculu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1240" y="3587760"/>
            <a:ext cx="703260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n Overview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ckground, Expectation, &amp; Explo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FCASD prepared with support from the AI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June/August 201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685800" y="2174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Common Core Standard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Placeholder 2"/>
          <p:cNvSpPr/>
          <p:nvPr/>
        </p:nvSpPr>
        <p:spPr>
          <a:xfrm>
            <a:off x="309600" y="1687680"/>
            <a:ext cx="86281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viewing standards throughout the web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rades 6-12 Literacy in History/Social Studies, Science, &amp; Technical Subject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bottom left s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Ancho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History/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cience &amp; Technical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r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PA Common Core Standards </a:t>
            </a:r>
            <a:br>
              <a:rPr sz="4000"/>
            </a:b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rc 1"/>
          <p:cNvSpPr/>
          <p:nvPr/>
        </p:nvSpPr>
        <p:spPr>
          <a:xfrm>
            <a:off x="361800" y="1181160"/>
            <a:ext cx="840132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rc 2"/>
          <p:cNvSpPr/>
          <p:nvPr/>
        </p:nvSpPr>
        <p:spPr>
          <a:xfrm>
            <a:off x="361800" y="2057400"/>
            <a:ext cx="8401320" cy="762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1800" y="3124080"/>
            <a:ext cx="15624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57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3124080"/>
            <a:ext cx="15433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86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96120" y="3124080"/>
            <a:ext cx="14670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 flipH="1">
            <a:off x="1143000" y="213372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 flipH="1">
            <a:off x="2866680" y="208440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 flipH="1">
            <a:off x="4581360" y="208440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11"/>
          <p:cNvSpPr/>
          <p:nvPr/>
        </p:nvSpPr>
        <p:spPr>
          <a:xfrm>
            <a:off x="5867280" y="2057400"/>
            <a:ext cx="42876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2"/>
          <p:cNvSpPr/>
          <p:nvPr/>
        </p:nvSpPr>
        <p:spPr>
          <a:xfrm>
            <a:off x="6705720" y="2084400"/>
            <a:ext cx="132372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79440" y="4856040"/>
            <a:ext cx="8307360" cy="16210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1228680" y="18097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Arrow 15"/>
          <p:cNvSpPr/>
          <p:nvPr/>
        </p:nvSpPr>
        <p:spPr>
          <a:xfrm>
            <a:off x="504720" y="49338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ight Arrow 16"/>
          <p:cNvSpPr/>
          <p:nvPr/>
        </p:nvSpPr>
        <p:spPr>
          <a:xfrm>
            <a:off x="504720" y="52592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ight Arrow 17"/>
          <p:cNvSpPr/>
          <p:nvPr/>
        </p:nvSpPr>
        <p:spPr>
          <a:xfrm>
            <a:off x="534960" y="5884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ight Arrow 18"/>
          <p:cNvSpPr/>
          <p:nvPr/>
        </p:nvSpPr>
        <p:spPr>
          <a:xfrm>
            <a:off x="523800" y="5557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809640" y="485604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838080" y="5181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828720" y="547992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39880" y="5735520"/>
            <a:ext cx="78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teracy standards for History and Social Stu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49"/>
          <p:cNvSpPr/>
          <p:nvPr/>
        </p:nvSpPr>
        <p:spPr>
          <a:xfrm>
            <a:off x="2112840" y="306072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4141080" y="3122640"/>
            <a:ext cx="9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78520" y="308628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5928840" y="3122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7338960" y="308628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eaking &amp; List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5"/>
          <p:cNvSpPr/>
          <p:nvPr/>
        </p:nvSpPr>
        <p:spPr>
          <a:xfrm>
            <a:off x="409680" y="347184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necessary  component of an effective, 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085840" y="3817800"/>
            <a:ext cx="156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7"/>
          <p:cNvSpPr/>
          <p:nvPr/>
        </p:nvSpPr>
        <p:spPr>
          <a:xfrm>
            <a:off x="3809880" y="3747960"/>
            <a:ext cx="154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5486400" y="330984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3"/>
          <p:cNvSpPr/>
          <p:nvPr/>
        </p:nvSpPr>
        <p:spPr>
          <a:xfrm>
            <a:off x="7296120" y="3478320"/>
            <a:ext cx="1424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ight Arrow 33"/>
          <p:cNvSpPr/>
          <p:nvPr/>
        </p:nvSpPr>
        <p:spPr>
          <a:xfrm>
            <a:off x="533520" y="61898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5"/>
          <p:cNvSpPr/>
          <p:nvPr/>
        </p:nvSpPr>
        <p:spPr>
          <a:xfrm>
            <a:off x="857160" y="611496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8600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685800" y="403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to PA Common Core Standards</a:t>
            </a:r>
            <a:br>
              <a:rPr sz="40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English Language Arts &amp; Mathema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341280" y="2133720"/>
            <a:ext cx="8502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.  Pennsylvania Common Core Standards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PreK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6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 PreK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2.  PA Common Core Append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LA Appendix A-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ematic Appendix A &amp; 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3.  ELA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4.  Mathematics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5.  ELA Emphasis Gu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6.  Mathematics Emphasis Guides and Cluster Mat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04840" y="1554120"/>
            <a:ext cx="6653160" cy="4410000"/>
            <a:chOff x="204840" y="1554120"/>
            <a:chExt cx="6653160" cy="4410000"/>
          </a:xfrm>
        </p:grpSpPr>
        <p:sp>
          <p:nvSpPr>
            <p:cNvPr id="113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H="1">
              <a:off x="2864520" y="229032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4484880" y="2290320"/>
              <a:ext cx="0" cy="27288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0"/>
            <p:cNvSpPr/>
            <p:nvPr/>
          </p:nvSpPr>
          <p:spPr>
            <a:xfrm>
              <a:off x="5388120" y="229032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>
              <a:off x="1445760" y="2290320"/>
              <a:ext cx="1117440" cy="107784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204840" y="337212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702760" y="409572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2017080" y="377856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749760" y="5045760"/>
              <a:ext cx="137268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-87480" y="35388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Calibri"/>
              </a:rPr>
              <a:t>Overall Char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 depth of knowledge with metacognition development throughout all grade levels (band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cognition development through learning skill acquisition within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clone of learning that revisits metacognition development (learning strategies) throughout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28600" y="250920"/>
            <a:ext cx="689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Rig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What is Depth of Knowledge (DOK) </a:t>
            </a:r>
            <a:r>
              <a:rPr b="1" lang="en-US" sz="2400" spc="-1" strike="noStrike">
                <a:solidFill>
                  <a:srgbClr val="3659b1"/>
                </a:solidFill>
                <a:latin typeface="Chalkboard Bold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8680" y="1380960"/>
            <a:ext cx="8153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scale of cognitive demand levels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(thinkin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o align standards with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ased on the research of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Norman Webb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es the 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eiling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or highest DOK level for each Core Content standard for the stat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Guides item development for state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MCj01875870000[1]"/>
          <p:cNvPicPr/>
          <p:nvPr/>
        </p:nvPicPr>
        <p:blipFill>
          <a:blip r:embed="rId2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746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Webb</a:t>
            </a:r>
            <a:r>
              <a:rPr b="0" lang="ja-JP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’</a:t>
            </a: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Arial"/>
              </a:rPr>
              <a:t>s DOK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8680" y="934920"/>
          <a:ext cx="8358120" cy="559620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2192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13A4A-31B5-4539-857C-230D6AE9C9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7724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651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33360" y="703440"/>
            <a:ext cx="6143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Exploring 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The Cognitive Rigor Matrix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59b1"/>
                </a:solidFill>
                <a:latin typeface="Calibri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TextBox 3" descr=""/>
          <p:cNvPicPr/>
          <p:nvPr/>
        </p:nvPicPr>
        <p:blipFill>
          <a:blip r:embed="rId2"/>
          <a:stretch/>
        </p:blipFill>
        <p:spPr>
          <a:xfrm>
            <a:off x="738360" y="3279600"/>
            <a:ext cx="7832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Aharoni"/>
                <a:ea typeface="ＭＳ Ｐゴシック"/>
              </a:rPr>
              <a:t>Producing Cognitive Swe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scientificamerican.com/media/inline/does-brain-size-matter_1.jpg"/>
          <p:cNvPicPr/>
          <p:nvPr/>
        </p:nvPicPr>
        <p:blipFill>
          <a:blip r:embed="rId2"/>
          <a:stretch/>
        </p:blipFill>
        <p:spPr>
          <a:xfrm>
            <a:off x="2108160" y="1282680"/>
            <a:ext cx="5438880" cy="3473640"/>
          </a:xfrm>
          <a:prstGeom prst="rect">
            <a:avLst/>
          </a:prstGeom>
          <a:ln w="0">
            <a:noFill/>
          </a:ln>
        </p:spPr>
      </p:pic>
      <p:sp>
        <p:nvSpPr>
          <p:cNvPr id="141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838080" y="503712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eting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gor of the Common C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772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ontinuation of NCLB encouraged by refined educational ideology and direction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Intent: raise educational rigor and achieve state/national standards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48 States adopted Common Core or version thereof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PA has altered Common Core to a minimal extent to  meet existing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a) assessment tools expectation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b) common language us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: expectation for integration of practices in th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 – 2014 school ye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Driving Forces Leading to </a:t>
            </a:r>
            <a:br>
              <a:rPr sz="3200"/>
            </a:b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CC Literacy Standards for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sed on a range of national and internationally benchmarked assessment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s are losing momentum during high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 readiness for college/work at an all time lo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adequat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erbal reasoning abil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derstanding of words us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ackground knowledge about domains represent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amiliarity with semantic and syntactic structures that assist with the understanding between relationships and ID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5AA1A-3097-4E0A-9898-2909437C73B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Profile of a Common Core Gradu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onsive to varying audience, task, purpose, and discip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pendent learner able to comprehend and critique works of quality and sub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lue Evidence – relevant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ology and Digital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other Perspectives/Cul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113B9-D378-4355-B18D-A5916455C98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Overarching the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upports a high degree of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igor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nd student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emphasis on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on-fiction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curs throughout the grades as well a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creasing the amount of student rea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chnolog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embedded and emphasizes the use of digital resourc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a daily basis for a variety of purposes is encourage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a prominent addition with exemplar tex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cific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caffol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of standards providing vertical articulation to support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nnections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emphasized throughout the grade level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ELA/Literacy Common Core </a:t>
            </a:r>
            <a:br>
              <a:rPr sz="3600"/>
            </a:b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 acquired K-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aking &amp; Liste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-area subjects incorporation and cross-curricular implementation for reading &amp; writ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3"/>
          <p:cNvSpPr/>
          <p:nvPr/>
        </p:nvSpPr>
        <p:spPr>
          <a:xfrm>
            <a:off x="685800" y="3254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on to Common Core Download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Placeholder 4"/>
          <p:cNvSpPr/>
          <p:nvPr/>
        </p:nvSpPr>
        <p:spPr>
          <a:xfrm>
            <a:off x="1371600" y="2585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andards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wnlo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tate Standards Arts &amp; Literacy in History/Social Studies, Science, &amp; Technical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21:19Z</dcterms:created>
  <dc:creator>Teacher FCASD</dc:creator>
  <dc:description/>
  <dc:language>en-US</dc:language>
  <cp:lastModifiedBy>Teacher FCASD</cp:lastModifiedBy>
  <dcterms:modified xsi:type="dcterms:W3CDTF">2012-06-04T18:53:13Z</dcterms:modified>
  <cp:revision>23</cp:revision>
  <dc:subject/>
  <dc:title>PA Common Core Standards</dc:title>
</cp:coreProperties>
</file>