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16AA71-DDC6-4312-BE67-15AA3C93F0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F95BBF-20DF-45AE-BB0F-905FBB69B7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Governors Association Center for Best Practices (NGA Center) and the Council of Chief State School Officers (CCSSO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E1A50A-8369-4DFD-8B2A-AD25CF338F6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F8D1-35A7-4DD4-9BAF-F4BBFE882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F40A-B282-4BD0-89DE-3B5F1787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90E8-6E06-425D-B6FB-F8F46C4DD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52D7-7441-49FA-B75E-BCAE35E23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1BB0-5F93-4743-8C2C-6487B224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A07C-8039-4747-85ED-4CEBE36B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5B5F-93C1-40F9-89FD-FF4A5DC2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5F64-ED4F-424A-B886-7EB488D5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204C-D2A3-47D1-A83F-E81B4894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107B-85E3-4069-9B6D-8EE36449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E796-6439-40D9-BB60-A9F4E118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4C6F-EA5C-4F0D-9F8E-4439050A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A29530-9F91-4A65-AB62-1FD266106158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195156-310E-44FD-B754-2E715B90E8E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1600" y="442800"/>
            <a:ext cx="8688240" cy="274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3659b1"/>
                </a:solidFill>
                <a:latin typeface="Calibri"/>
              </a:rPr>
              <a:t>Transition to </a:t>
            </a:r>
            <a:br>
              <a:rPr sz="3600"/>
            </a:br>
            <a:r>
              <a:rPr b="1" i="1" lang="en-US" sz="3600" spc="-1" strike="noStrike">
                <a:solidFill>
                  <a:srgbClr val="3659b1"/>
                </a:solidFill>
                <a:latin typeface="Calibri"/>
              </a:rPr>
              <a:t>~ PA Common Core Standards ~</a:t>
            </a:r>
            <a:br>
              <a:rPr sz="3600"/>
            </a:br>
            <a:r>
              <a:rPr b="1" i="1" lang="en-US" sz="3600" spc="-1" strike="noStrike">
                <a:solidFill>
                  <a:srgbClr val="3659b1"/>
                </a:solidFill>
                <a:latin typeface="Calibri"/>
              </a:rPr>
              <a:t>English Language Arts,</a:t>
            </a:r>
            <a:br>
              <a:rPr sz="3600"/>
            </a:br>
            <a:r>
              <a:rPr b="1" i="1" lang="en-US" sz="3600" spc="-1" strike="noStrike">
                <a:solidFill>
                  <a:srgbClr val="3659b1"/>
                </a:solidFill>
                <a:latin typeface="Calibri"/>
              </a:rPr>
              <a:t>Literacy across the Curriculum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01240" y="3587760"/>
            <a:ext cx="7032600" cy="25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An Overview: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Background, Expectation, &amp; Explor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e30000"/>
                </a:solidFill>
                <a:latin typeface="Calibri"/>
              </a:rPr>
              <a:t>FCASD prepared with support from the AIU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e3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e30000"/>
                </a:solidFill>
                <a:latin typeface="Calibri"/>
              </a:rPr>
              <a:t>June/August 2012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tle 1"/>
          <p:cNvSpPr/>
          <p:nvPr/>
        </p:nvSpPr>
        <p:spPr>
          <a:xfrm>
            <a:off x="685800" y="2174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659b1"/>
                </a:solidFill>
                <a:latin typeface="Calibri"/>
              </a:rPr>
              <a:t>Navigating Common Core Standards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non-English/Math subjec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Placeholder 2"/>
          <p:cNvSpPr/>
          <p:nvPr/>
        </p:nvSpPr>
        <p:spPr>
          <a:xfrm>
            <a:off x="309600" y="1687680"/>
            <a:ext cx="862812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ttp://www.corestandards.org/the-standards/english-language-arts-standards/reading-informational-text-6-12/grade-11-12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Reviewing standards throughout the websi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Grades 6-12 Literacy in History/Social Studies, Science, &amp; Technical Subjects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(bottom left sid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Anchor 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History/Social Stud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Science &amp; Technical Su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Wri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659b1"/>
                </a:solidFill>
                <a:latin typeface="Calibri"/>
              </a:rPr>
              <a:t>PA Common Core Standards </a:t>
            </a:r>
            <a:br>
              <a:rPr sz="4000"/>
            </a:br>
            <a:r>
              <a:rPr b="1" lang="en-US" sz="4000" spc="-1" strike="noStrike">
                <a:solidFill>
                  <a:srgbClr val="3659b1"/>
                </a:solidFill>
                <a:latin typeface="Calibri"/>
              </a:rPr>
              <a:t>Focu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djusted to meet State expectations/need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ndational Skil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ading Informational Tex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ading Literatur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ri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peaking and Listen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rc 1"/>
          <p:cNvSpPr/>
          <p:nvPr/>
        </p:nvSpPr>
        <p:spPr>
          <a:xfrm>
            <a:off x="361800" y="1181160"/>
            <a:ext cx="8401320" cy="251460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rc 2"/>
          <p:cNvSpPr/>
          <p:nvPr/>
        </p:nvSpPr>
        <p:spPr>
          <a:xfrm>
            <a:off x="361800" y="2057400"/>
            <a:ext cx="8401320" cy="7621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61800" y="3124080"/>
            <a:ext cx="1562400" cy="1600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2057400" y="3124080"/>
            <a:ext cx="1619280" cy="1600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809880" y="3124080"/>
            <a:ext cx="1543320" cy="1600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5486400" y="3124080"/>
            <a:ext cx="1619280" cy="1600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96120" y="3124080"/>
            <a:ext cx="1467000" cy="1600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Straight Connector 8"/>
          <p:cNvSpPr/>
          <p:nvPr/>
        </p:nvSpPr>
        <p:spPr>
          <a:xfrm flipH="1">
            <a:off x="1143000" y="2133720"/>
            <a:ext cx="1447920" cy="99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Straight Connector 9"/>
          <p:cNvSpPr/>
          <p:nvPr/>
        </p:nvSpPr>
        <p:spPr>
          <a:xfrm flipH="1">
            <a:off x="2866680" y="2084400"/>
            <a:ext cx="638280" cy="1039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Straight Connector 10"/>
          <p:cNvSpPr/>
          <p:nvPr/>
        </p:nvSpPr>
        <p:spPr>
          <a:xfrm flipH="1">
            <a:off x="4581360" y="2084400"/>
            <a:ext cx="38160" cy="1039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Straight Connector 11"/>
          <p:cNvSpPr/>
          <p:nvPr/>
        </p:nvSpPr>
        <p:spPr>
          <a:xfrm>
            <a:off x="5867280" y="2057400"/>
            <a:ext cx="428760" cy="1066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Straight Connector 12"/>
          <p:cNvSpPr/>
          <p:nvPr/>
        </p:nvSpPr>
        <p:spPr>
          <a:xfrm>
            <a:off x="6705720" y="2084400"/>
            <a:ext cx="1323720" cy="1039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13"/>
          <p:cNvSpPr/>
          <p:nvPr/>
        </p:nvSpPr>
        <p:spPr>
          <a:xfrm>
            <a:off x="379440" y="4856040"/>
            <a:ext cx="8307360" cy="1621080"/>
          </a:xfrm>
          <a:prstGeom prst="rect">
            <a:avLst/>
          </a:prstGeom>
          <a:noFill/>
          <a:ln w="255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39"/>
          <p:cNvSpPr/>
          <p:nvPr/>
        </p:nvSpPr>
        <p:spPr>
          <a:xfrm>
            <a:off x="1228680" y="1809720"/>
            <a:ext cx="670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lege and Career Readiness Anchor Standa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ight Arrow 15"/>
          <p:cNvSpPr/>
          <p:nvPr/>
        </p:nvSpPr>
        <p:spPr>
          <a:xfrm>
            <a:off x="504720" y="493380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ight Arrow 16"/>
          <p:cNvSpPr/>
          <p:nvPr/>
        </p:nvSpPr>
        <p:spPr>
          <a:xfrm>
            <a:off x="504720" y="525924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ight Arrow 17"/>
          <p:cNvSpPr/>
          <p:nvPr/>
        </p:nvSpPr>
        <p:spPr>
          <a:xfrm>
            <a:off x="534960" y="58849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ight Arrow 18"/>
          <p:cNvSpPr/>
          <p:nvPr/>
        </p:nvSpPr>
        <p:spPr>
          <a:xfrm>
            <a:off x="523800" y="55576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44"/>
          <p:cNvSpPr/>
          <p:nvPr/>
        </p:nvSpPr>
        <p:spPr>
          <a:xfrm>
            <a:off x="809640" y="4856040"/>
            <a:ext cx="787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pendix A:  Research behind the standards and a glossary of ter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45"/>
          <p:cNvSpPr/>
          <p:nvPr/>
        </p:nvSpPr>
        <p:spPr>
          <a:xfrm>
            <a:off x="838080" y="518148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ppendix B: Text exemplars illustrating complexity, quality, and range of reading appropriatenes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46"/>
          <p:cNvSpPr/>
          <p:nvPr/>
        </p:nvSpPr>
        <p:spPr>
          <a:xfrm>
            <a:off x="828720" y="5479920"/>
            <a:ext cx="785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ppendix C: Annotated samples of student writing at various gra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47"/>
          <p:cNvSpPr/>
          <p:nvPr/>
        </p:nvSpPr>
        <p:spPr>
          <a:xfrm>
            <a:off x="839880" y="5735520"/>
            <a:ext cx="78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ppendix D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iteracy standards for History and Social Stud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49"/>
          <p:cNvSpPr/>
          <p:nvPr/>
        </p:nvSpPr>
        <p:spPr>
          <a:xfrm>
            <a:off x="2112840" y="3060720"/>
            <a:ext cx="1563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ing Informational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50"/>
          <p:cNvSpPr/>
          <p:nvPr/>
        </p:nvSpPr>
        <p:spPr>
          <a:xfrm>
            <a:off x="4141080" y="3122640"/>
            <a:ext cx="95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ea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Literat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1"/>
          <p:cNvSpPr/>
          <p:nvPr/>
        </p:nvSpPr>
        <p:spPr>
          <a:xfrm>
            <a:off x="578520" y="3086280"/>
            <a:ext cx="116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oundat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kil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52"/>
          <p:cNvSpPr/>
          <p:nvPr/>
        </p:nvSpPr>
        <p:spPr>
          <a:xfrm>
            <a:off x="5928840" y="3122640"/>
            <a:ext cx="73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7338960" y="3086280"/>
            <a:ext cx="142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peaking &amp; Listen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55"/>
          <p:cNvSpPr/>
          <p:nvPr/>
        </p:nvSpPr>
        <p:spPr>
          <a:xfrm>
            <a:off x="409680" y="3471840"/>
            <a:ext cx="156348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A necessary  component of an effective, comprehensive reading program designed to develop proficient readers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56"/>
          <p:cNvSpPr/>
          <p:nvPr/>
        </p:nvSpPr>
        <p:spPr>
          <a:xfrm>
            <a:off x="2085840" y="3817800"/>
            <a:ext cx="1563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Enables students to read, understand, and respond to informational texts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57"/>
          <p:cNvSpPr/>
          <p:nvPr/>
        </p:nvSpPr>
        <p:spPr>
          <a:xfrm>
            <a:off x="3809880" y="3747960"/>
            <a:ext cx="1543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Enables students to read, understand, and respond to literature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58"/>
          <p:cNvSpPr/>
          <p:nvPr/>
        </p:nvSpPr>
        <p:spPr>
          <a:xfrm>
            <a:off x="5486400" y="3309840"/>
            <a:ext cx="16192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Develops the skills of informational, argumentative, and narrative writing as well as the ability to engage in evidence based analysis of text and research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63"/>
          <p:cNvSpPr/>
          <p:nvPr/>
        </p:nvSpPr>
        <p:spPr>
          <a:xfrm>
            <a:off x="7296120" y="3478320"/>
            <a:ext cx="142416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Focuses students on communication skills that enable critical listening and effective presentation of ideas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ight Arrow 33"/>
          <p:cNvSpPr/>
          <p:nvPr/>
        </p:nvSpPr>
        <p:spPr>
          <a:xfrm>
            <a:off x="533520" y="618984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65"/>
          <p:cNvSpPr/>
          <p:nvPr/>
        </p:nvSpPr>
        <p:spPr>
          <a:xfrm>
            <a:off x="857160" y="6114960"/>
            <a:ext cx="782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pendix E: Literacy standards for Science and Technical Subje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2286000" y="119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659b1"/>
                </a:solidFill>
                <a:latin typeface="Calibri"/>
              </a:rPr>
              <a:t>PA Common Core Standa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659b1"/>
                </a:solidFill>
                <a:latin typeface="Calibri"/>
              </a:rPr>
              <a:t>English Language Arts &amp; Liter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tle 1"/>
          <p:cNvSpPr/>
          <p:nvPr/>
        </p:nvSpPr>
        <p:spPr>
          <a:xfrm>
            <a:off x="685800" y="4032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659b1"/>
                </a:solidFill>
                <a:latin typeface="Calibri"/>
              </a:rPr>
              <a:t>Navigating to PA Common Core Standards</a:t>
            </a:r>
            <a:br>
              <a:rPr sz="4000"/>
            </a:b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(English Language Arts &amp; Mathematic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Placeholder 2"/>
          <p:cNvSpPr/>
          <p:nvPr/>
        </p:nvSpPr>
        <p:spPr>
          <a:xfrm>
            <a:off x="341280" y="2133720"/>
            <a:ext cx="85028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http://pdesas.org/Standard/CommonC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1.  Pennsylvania Common Core Standards (Draft Versio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alibri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English Language Arts PreK-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alibri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English Language Arts 6-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alibri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Math PreK-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2.  PA Common Core Appendi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alibri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ELA Appendix A-C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alibri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Mathematic Appendix A &amp; B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3.  ELA Assessment Anchors and Eligible Content (Draft Versio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4.  Mathematics Assessment Anchors and Eligible Content (Draft Versio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5.  ELA Emphasis Guid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6.  Mathematics Emphasis Guides and Cluster Matri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659b1"/>
                </a:solidFill>
                <a:latin typeface="Calibri"/>
              </a:rPr>
              <a:t>Standard Coding/Number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milar to existing standard coding syst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nguage collaboration between existing standard and Common Core langu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6"/>
          <p:cNvGrpSpPr/>
          <p:nvPr/>
        </p:nvGrpSpPr>
        <p:grpSpPr>
          <a:xfrm>
            <a:off x="204840" y="1554120"/>
            <a:ext cx="6653160" cy="4410000"/>
            <a:chOff x="204840" y="1554120"/>
            <a:chExt cx="6653160" cy="4410000"/>
          </a:xfrm>
        </p:grpSpPr>
        <p:sp>
          <p:nvSpPr>
            <p:cNvPr id="113" name="Text Box 7"/>
            <p:cNvSpPr/>
            <p:nvPr/>
          </p:nvSpPr>
          <p:spPr>
            <a:xfrm>
              <a:off x="2017080" y="1554120"/>
              <a:ext cx="4750200" cy="91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C.  1.   5.   6.   B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8"/>
            <p:cNvSpPr/>
            <p:nvPr/>
          </p:nvSpPr>
          <p:spPr>
            <a:xfrm flipH="1">
              <a:off x="2864520" y="2290320"/>
              <a:ext cx="763560" cy="1487160"/>
            </a:xfrm>
            <a:prstGeom prst="line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9"/>
            <p:cNvSpPr/>
            <p:nvPr/>
          </p:nvSpPr>
          <p:spPr>
            <a:xfrm>
              <a:off x="4484880" y="2290320"/>
              <a:ext cx="0" cy="2728800"/>
            </a:xfrm>
            <a:prstGeom prst="line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10"/>
            <p:cNvSpPr/>
            <p:nvPr/>
          </p:nvSpPr>
          <p:spPr>
            <a:xfrm>
              <a:off x="5388120" y="2290320"/>
              <a:ext cx="709920" cy="1805400"/>
            </a:xfrm>
            <a:prstGeom prst="line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11"/>
            <p:cNvSpPr/>
            <p:nvPr/>
          </p:nvSpPr>
          <p:spPr>
            <a:xfrm flipH="1">
              <a:off x="1445760" y="2290320"/>
              <a:ext cx="1117440" cy="1077840"/>
            </a:xfrm>
            <a:prstGeom prst="line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12"/>
            <p:cNvSpPr/>
            <p:nvPr/>
          </p:nvSpPr>
          <p:spPr>
            <a:xfrm>
              <a:off x="204840" y="3372120"/>
              <a:ext cx="1959840" cy="91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 Common Co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Text Box 13"/>
            <p:cNvSpPr/>
            <p:nvPr/>
          </p:nvSpPr>
          <p:spPr>
            <a:xfrm>
              <a:off x="5702760" y="4095720"/>
              <a:ext cx="115524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Grade Leve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14"/>
            <p:cNvSpPr/>
            <p:nvPr/>
          </p:nvSpPr>
          <p:spPr>
            <a:xfrm>
              <a:off x="2017080" y="3778560"/>
              <a:ext cx="140724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nglish Language Ar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15"/>
            <p:cNvSpPr/>
            <p:nvPr/>
          </p:nvSpPr>
          <p:spPr>
            <a:xfrm>
              <a:off x="3749760" y="5045760"/>
              <a:ext cx="1372680" cy="91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peaking &amp; Listening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Line 10"/>
          <p:cNvSpPr/>
          <p:nvPr/>
        </p:nvSpPr>
        <p:spPr>
          <a:xfrm>
            <a:off x="6418440" y="2290680"/>
            <a:ext cx="784080" cy="1257480"/>
          </a:xfrm>
          <a:prstGeom prst="line">
            <a:avLst/>
          </a:prstGeom>
          <a:ln w="4428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7202520" y="3672000"/>
            <a:ext cx="172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aking &amp; List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ndard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13"/>
          <p:cNvSpPr/>
          <p:nvPr/>
        </p:nvSpPr>
        <p:spPr>
          <a:xfrm>
            <a:off x="-87480" y="353880"/>
            <a:ext cx="923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659b1"/>
                </a:solidFill>
                <a:latin typeface="Calibri"/>
              </a:rPr>
              <a:t>Read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659b1"/>
                </a:solidFill>
                <a:latin typeface="Calibri"/>
              </a:rPr>
              <a:t>PA Common Core Coding/Numbe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659b1"/>
                </a:solidFill>
                <a:latin typeface="Calibri"/>
              </a:rPr>
              <a:t>Overall Char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crease depth of knowledge with metacognition development throughout all grade levels (bands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tacognition development through learning skill acquisition within band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yclone of learning that revisits metacognition development (learning strategies) throughout band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228600" y="250920"/>
            <a:ext cx="6892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59b1"/>
                </a:solidFill>
                <a:latin typeface="Calibri"/>
                <a:ea typeface="ＭＳ Ｐゴシック"/>
              </a:rPr>
              <a:t>Rigor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59b1"/>
                </a:solidFill>
                <a:latin typeface="Calibri"/>
                <a:ea typeface="ＭＳ Ｐゴシック"/>
              </a:rPr>
              <a:t>What is Depth of Knowledge (DOK) </a:t>
            </a:r>
            <a:r>
              <a:rPr b="1" lang="en-US" sz="2400" spc="-1" strike="noStrike">
                <a:solidFill>
                  <a:srgbClr val="3659b1"/>
                </a:solidFill>
                <a:latin typeface="Chalkboard Bold"/>
                <a:ea typeface="ＭＳ Ｐゴシック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 rot="19200">
            <a:off x="1483920" y="4535280"/>
            <a:ext cx="642924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328680" y="1380960"/>
            <a:ext cx="81532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marL="888840" indent="-571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 scale of cognitive demand levels </a:t>
            </a:r>
            <a:r>
              <a:rPr b="0" lang="en-US" sz="2400" spc="-1" strike="noStrike">
                <a:solidFill>
                  <a:srgbClr val="c0504d"/>
                </a:solidFill>
                <a:latin typeface="Calibri"/>
                <a:ea typeface="ＭＳ Ｐゴシック"/>
              </a:rPr>
              <a:t>(thinking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88840" indent="-571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o align standards with assess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88840" indent="-571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88840" indent="-571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Based on the research of </a:t>
            </a:r>
            <a:r>
              <a:rPr b="0" lang="en-US" sz="2400" spc="-1" strike="noStrike">
                <a:solidFill>
                  <a:srgbClr val="c0504d"/>
                </a:solidFill>
                <a:latin typeface="Calibri"/>
                <a:ea typeface="ＭＳ Ｐゴシック"/>
              </a:rPr>
              <a:t>Norman Webb,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University of Wisconsin Center for Education Research and the National Institute for Science E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88840" indent="-571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88840" indent="-571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Defines the </a:t>
            </a:r>
            <a:r>
              <a:rPr b="0" lang="ja-JP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ceiling</a:t>
            </a:r>
            <a:r>
              <a:rPr b="0" lang="ja-JP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or highest DOK level for each Core Content standard for the state assess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88840" indent="-571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88840" indent="-571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Guides item development for state assess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6" descr="MCj01875870000[1]"/>
          <p:cNvPicPr/>
          <p:nvPr/>
        </p:nvPicPr>
        <p:blipFill>
          <a:blip r:embed="rId2"/>
          <a:stretch/>
        </p:blipFill>
        <p:spPr>
          <a:xfrm>
            <a:off x="7702560" y="426960"/>
            <a:ext cx="1069920" cy="12589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2762280" y="857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tle 1"/>
          <p:cNvSpPr/>
          <p:nvPr/>
        </p:nvSpPr>
        <p:spPr>
          <a:xfrm>
            <a:off x="457200" y="27468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659b1"/>
                </a:solidFill>
                <a:latin typeface="Arial Black"/>
                <a:ea typeface="ＭＳ Ｐゴシック"/>
              </a:rPr>
              <a:t>Webb</a:t>
            </a:r>
            <a:r>
              <a:rPr b="0" lang="ja-JP" sz="3700" spc="-1" strike="noStrike">
                <a:solidFill>
                  <a:srgbClr val="3659b1"/>
                </a:solidFill>
                <a:latin typeface="Arial Black"/>
                <a:ea typeface="ＭＳ Ｐゴシック"/>
              </a:rPr>
              <a:t>’</a:t>
            </a:r>
            <a:r>
              <a:rPr b="0" lang="en-US" sz="3700" spc="-1" strike="noStrike">
                <a:solidFill>
                  <a:srgbClr val="3659b1"/>
                </a:solidFill>
                <a:latin typeface="Arial Black"/>
                <a:ea typeface="Arial"/>
              </a:rPr>
              <a:t>s DOK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28680" y="934920"/>
          <a:ext cx="8358120" cy="5596200"/>
        </p:xfrm>
        <a:graphic>
          <a:graphicData uri="http://schemas.openxmlformats.org/drawingml/2006/table">
            <a:tbl>
              <a:tblPr/>
              <a:tblGrid>
                <a:gridCol w="1679400"/>
                <a:gridCol w="6678720"/>
              </a:tblGrid>
              <a:tr h="421920">
                <a:tc gridSpan="2">
                  <a:txBody>
                    <a:bodyPr lIns="34560" rIns="345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DEFINI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4800">
                <a:tc>
                  <a:txBody>
                    <a:bodyPr lIns="34560" rIns="34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vel 1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all &amp; Reprodu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ent recalls facts, information, procedures, or definition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34560" rIns="34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vel 2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kills &amp; Concep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ent uses information, conceptual knowledge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d procedur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34560" rIns="34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vel 3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ategic Think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ent uses reasoning and develops a plan or sequence of steps; process has some complexity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9880">
                <a:tc>
                  <a:txBody>
                    <a:bodyPr lIns="34560" rIns="34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vel 4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tended Think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ent conducts an investigation, needs time to think and process multiple conditions of problem or task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313CD3-4357-4EA0-B037-AD3132059AC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457200" y="598320"/>
            <a:ext cx="8229600" cy="13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59b1"/>
                </a:solidFill>
                <a:latin typeface="Arial Black"/>
                <a:ea typeface="ＭＳ Ｐゴシック"/>
              </a:rPr>
              <a:t>Depth of Knowled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969840" y="1905120"/>
            <a:ext cx="7848720" cy="32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Depth of Knowledge is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  <a:ea typeface="ＭＳ Ｐゴシック"/>
              </a:rPr>
              <a:t>NO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termined by the verb, but th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ext in which the verb is us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d the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pth of thinking require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45880"/>
            <a:ext cx="7772400" cy="13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3659b1"/>
                </a:solidFill>
                <a:latin typeface="Calibri"/>
              </a:rPr>
              <a:t>What are the </a:t>
            </a:r>
            <a:br>
              <a:rPr sz="3200"/>
            </a:br>
            <a:r>
              <a:rPr b="1" i="1" lang="en-US" sz="3200" spc="-1" strike="noStrike">
                <a:solidFill>
                  <a:srgbClr val="3659b1"/>
                </a:solidFill>
                <a:latin typeface="Calibri"/>
              </a:rPr>
              <a:t>Common Core State Standards/CCSS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865160"/>
            <a:ext cx="77724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ate led - coordinated by NGA (National Governor’s Association) Center and CCSSO (Council of Chief State School Officer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igorous content and application of knowledge through high-order skil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ild upon strengths and lessons of current state standar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nationally benchmarked so that all students are prepared to succeed in our global economy and socie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1233360" y="703440"/>
            <a:ext cx="614376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600" spc="-1" strike="noStrike">
                <a:solidFill>
                  <a:srgbClr val="3659b1"/>
                </a:solidFill>
                <a:latin typeface="Calibri"/>
                <a:ea typeface="ヒラギノ角ゴ Pro W3"/>
              </a:rPr>
              <a:t>Exploring …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3659b1"/>
                </a:solidFill>
                <a:latin typeface="Calibri"/>
                <a:ea typeface="ヒラギノ角ゴ Pro W3"/>
              </a:rPr>
              <a:t>The Cognitive Rigor Matrix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659b1"/>
                </a:solidFill>
                <a:latin typeface="Calibri"/>
              </a:rPr>
              <a:t>(K. Hes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TextBox 3" descr=""/>
          <p:cNvPicPr/>
          <p:nvPr/>
        </p:nvPicPr>
        <p:blipFill>
          <a:blip r:embed="rId2"/>
          <a:stretch/>
        </p:blipFill>
        <p:spPr>
          <a:xfrm>
            <a:off x="738360" y="3279600"/>
            <a:ext cx="78325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tle 1"/>
          <p:cNvSpPr/>
          <p:nvPr/>
        </p:nvSpPr>
        <p:spPr>
          <a:xfrm>
            <a:off x="5335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659b1"/>
                </a:solidFill>
                <a:latin typeface="Aharoni"/>
                <a:ea typeface="ＭＳ Ｐゴシック"/>
              </a:rPr>
              <a:t>Producing Cognitive Sweat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" descr="http://www.scientificamerican.com/media/inline/does-brain-size-matter_1.jpg"/>
          <p:cNvPicPr/>
          <p:nvPr/>
        </p:nvPicPr>
        <p:blipFill>
          <a:blip r:embed="rId2"/>
          <a:stretch/>
        </p:blipFill>
        <p:spPr>
          <a:xfrm>
            <a:off x="2108160" y="1282680"/>
            <a:ext cx="5438880" cy="3473640"/>
          </a:xfrm>
          <a:prstGeom prst="rect">
            <a:avLst/>
          </a:prstGeom>
          <a:ln w="0">
            <a:noFill/>
          </a:ln>
        </p:spPr>
      </p:pic>
      <p:sp>
        <p:nvSpPr>
          <p:cNvPr id="141" name="Teardrop 3"/>
          <p:cNvSpPr/>
          <p:nvPr/>
        </p:nvSpPr>
        <p:spPr>
          <a:xfrm rot="4632000">
            <a:off x="2346480" y="2268000"/>
            <a:ext cx="457200" cy="457200"/>
          </a:xfrm>
          <a:prstGeom prst="pie">
            <a:avLst/>
          </a:prstGeom>
          <a:solidFill>
            <a:srgbClr val="0070c0">
              <a:alpha val="61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ardrop 4"/>
          <p:cNvSpPr/>
          <p:nvPr/>
        </p:nvSpPr>
        <p:spPr>
          <a:xfrm rot="5400000">
            <a:off x="2301840" y="1515960"/>
            <a:ext cx="457200" cy="457200"/>
          </a:xfrm>
          <a:prstGeom prst="pie">
            <a:avLst/>
          </a:prstGeom>
          <a:solidFill>
            <a:srgbClr val="0070c0">
              <a:alpha val="8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ardrop 5"/>
          <p:cNvSpPr/>
          <p:nvPr/>
        </p:nvSpPr>
        <p:spPr>
          <a:xfrm rot="10390200">
            <a:off x="6292440" y="1960560"/>
            <a:ext cx="457200" cy="457200"/>
          </a:xfrm>
          <a:prstGeom prst="pie">
            <a:avLst/>
          </a:prstGeom>
          <a:solidFill>
            <a:srgbClr val="0070c0">
              <a:alpha val="53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ardrop 6"/>
          <p:cNvSpPr/>
          <p:nvPr/>
        </p:nvSpPr>
        <p:spPr>
          <a:xfrm rot="10315800">
            <a:off x="6141960" y="1287360"/>
            <a:ext cx="457200" cy="457200"/>
          </a:xfrm>
          <a:prstGeom prst="pie">
            <a:avLst/>
          </a:prstGeom>
          <a:solidFill>
            <a:srgbClr val="0070c0">
              <a:alpha val="7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ardrop 7"/>
          <p:cNvSpPr/>
          <p:nvPr/>
        </p:nvSpPr>
        <p:spPr>
          <a:xfrm rot="11651400">
            <a:off x="6875640" y="2160360"/>
            <a:ext cx="457200" cy="457200"/>
          </a:xfrm>
          <a:prstGeom prst="pie">
            <a:avLst/>
          </a:prstGeom>
          <a:solidFill>
            <a:srgbClr val="0070c0">
              <a:alpha val="5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ardrop 8"/>
          <p:cNvSpPr/>
          <p:nvPr/>
        </p:nvSpPr>
        <p:spPr>
          <a:xfrm rot="19416600">
            <a:off x="3836520" y="3672000"/>
            <a:ext cx="457200" cy="457200"/>
          </a:xfrm>
          <a:prstGeom prst="pie">
            <a:avLst/>
          </a:prstGeom>
          <a:solidFill>
            <a:srgbClr val="0070c0">
              <a:alpha val="7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ardrop 9"/>
          <p:cNvSpPr/>
          <p:nvPr/>
        </p:nvSpPr>
        <p:spPr>
          <a:xfrm rot="3359400">
            <a:off x="1720440" y="2312640"/>
            <a:ext cx="457200" cy="457200"/>
          </a:xfrm>
          <a:prstGeom prst="pie">
            <a:avLst/>
          </a:prstGeom>
          <a:solidFill>
            <a:srgbClr val="0070c0">
              <a:alpha val="7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ardrop 10"/>
          <p:cNvSpPr/>
          <p:nvPr/>
        </p:nvSpPr>
        <p:spPr>
          <a:xfrm rot="18984000">
            <a:off x="5073120" y="2831760"/>
            <a:ext cx="457200" cy="457200"/>
          </a:xfrm>
          <a:prstGeom prst="pie">
            <a:avLst/>
          </a:prstGeom>
          <a:solidFill>
            <a:srgbClr val="0070c0">
              <a:alpha val="8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ardrop 11"/>
          <p:cNvSpPr/>
          <p:nvPr/>
        </p:nvSpPr>
        <p:spPr>
          <a:xfrm rot="19065000">
            <a:off x="6362280" y="4603680"/>
            <a:ext cx="457200" cy="457200"/>
          </a:xfrm>
          <a:prstGeom prst="pie">
            <a:avLst/>
          </a:prstGeom>
          <a:solidFill>
            <a:srgbClr val="0070c0">
              <a:alpha val="7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838080" y="5037120"/>
            <a:ext cx="792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eting th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igor of the Common Co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659b1"/>
                </a:solidFill>
                <a:latin typeface="Calibri"/>
              </a:rPr>
              <a:t>Background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37772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</a:rPr>
              <a:t>Continuation of NCLB encouraged by refined educational ideology and direction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</a:rPr>
              <a:t>Intent: raise educational rigor and achieve state/national standards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</a:rPr>
              <a:t>48 States adopted Common Core or version thereof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</a:rPr>
              <a:t>PA has altered Common Core to a minimal extent to  meet existing 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</a:rPr>
              <a:t>(a) assessment tools expectations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</a:rPr>
              <a:t>(b) common language use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ransition: expectation for integration of practices in th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013 – 2014 school yea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659b1"/>
                </a:solidFill>
                <a:latin typeface="Garamond"/>
              </a:rPr>
              <a:t>Driving Forces Leading to </a:t>
            </a:r>
            <a:br>
              <a:rPr sz="3200"/>
            </a:br>
            <a:r>
              <a:rPr b="1" lang="en-US" sz="3200" spc="-1" strike="noStrike">
                <a:solidFill>
                  <a:srgbClr val="3659b1"/>
                </a:solidFill>
                <a:latin typeface="Garamond"/>
              </a:rPr>
              <a:t>CC Literacy Standards for Al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11430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ased on a range of national and internationally benchmarked assessments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tudents are losing momentum during high school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tudent readiness for college/work at an all time low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adequate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514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Verbal reasoning ability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514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nderstanding of words used in tex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514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Background knowledge about domains represented in tex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514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Familiarity with semantic and syntactic structures that assist with the understanding between relationships and IDEA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4572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E1E993-3089-40CA-9859-21A801E412A6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3659b1"/>
                </a:solidFill>
                <a:latin typeface="Calibri"/>
              </a:rPr>
              <a:t>Profile of a Common Core Gradu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560" y="914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sponsive to varying audience, task, purpose, and discipli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dependent learner able to comprehend and critique works of quality and substa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alue Evidence – relevant suppor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chnology and Digital Med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derstand other Perspectives/Cultur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4572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56E4B6-4D64-48B1-AF51-CC1F17D91077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3659b1"/>
                </a:solidFill>
                <a:latin typeface="Calibri"/>
              </a:rPr>
              <a:t>Overarching them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280" y="9903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mmon Core supports a high degree of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rigor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and student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ollaboratio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 emphasis on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non-fiction</a:t>
            </a: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ccurs throughout the grades as well as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increasing the amount of student reading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Technology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is embedded and emphasizes the use of digital resource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Speaking and Listening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standards are much more specifi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Writing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n a daily basis for a variety of purposes is encouraged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Academic writing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– argument/explanation/researc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Text complexity</a:t>
            </a: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s a prominent addition with exemplar text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Specificity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d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scaffolding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of standards providing vertical articulation to support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text complexity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Text connections</a:t>
            </a: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re emphasized throughout the grade level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4648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659b1"/>
                </a:solidFill>
                <a:latin typeface="Calibri"/>
              </a:rPr>
              <a:t>ELA/Literacy Common Core </a:t>
            </a:r>
            <a:br>
              <a:rPr sz="3600"/>
            </a:br>
            <a:r>
              <a:rPr b="1" lang="en-US" sz="3600" spc="-1" strike="noStrike">
                <a:solidFill>
                  <a:srgbClr val="3659b1"/>
                </a:solidFill>
                <a:latin typeface="Calibri"/>
              </a:rPr>
              <a:t>Focu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ad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ndational skill acquired K-5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rit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eaking &amp; Listen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ngu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tent-area subjects incorporation and cross-curricular implementation for reading &amp; writing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le 3"/>
          <p:cNvSpPr/>
          <p:nvPr/>
        </p:nvSpPr>
        <p:spPr>
          <a:xfrm>
            <a:off x="685800" y="3254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659b1"/>
                </a:solidFill>
                <a:latin typeface="Calibri"/>
              </a:rPr>
              <a:t>Navigation to Common Core Download 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non-English/Math subjec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Placeholder 4"/>
          <p:cNvSpPr/>
          <p:nvPr/>
        </p:nvSpPr>
        <p:spPr>
          <a:xfrm>
            <a:off x="1371600" y="2585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ttp://www.corestandards.org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Standards T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ownloa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mmon Core State Standards Arts &amp; Literacy in History/Social Studies, Science, &amp; Technical Su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9T20:21:19Z</dcterms:created>
  <dc:creator>Teacher FCASD</dc:creator>
  <dc:description/>
  <dc:language>en-US</dc:language>
  <cp:lastModifiedBy>Teacher FCASD</cp:lastModifiedBy>
  <dcterms:modified xsi:type="dcterms:W3CDTF">2012-06-04T18:53:13Z</dcterms:modified>
  <cp:revision>23</cp:revision>
  <dc:subject/>
  <dc:title>PA Common Core Standards</dc:title>
</cp:coreProperties>
</file>